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BBB5-96BF-4B7B-9DC9-8E7E75FF5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0CBD-B1F6-4FFA-8DDF-016BDC68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C2CC3E-1AE1-45B9-B8A7-00579204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A22A0A-B084-4D67-9C32-6AB89694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8DCDA3-D70B-4E60-AE9B-CD5FEF75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479D0A-7F4A-4624-9EA1-8AD21910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2CA820-84F4-4237-8686-B3DD7FCE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E7128B-0B8B-462B-A7B7-88181027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359C11-E826-435D-8280-48DFF4D0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CC2A49-65EC-48F2-A60E-87F320E72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FD9402-D86D-49BD-A7EB-817A10B39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A30986-9E1B-48F6-87A9-090503211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5794-A072-4039-B702-784878E41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05CF9A-3A0D-4109-AD78-618507A0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5B87BC-DF14-4AFC-A46F-984A9C1A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E0C5FF-4873-4099-A5C2-BF520FDF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DEB03B-ADCC-4A88-90E9-BBADA7D4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4188A1-27CB-40B1-8A54-FFFF4E3A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04208A-E042-477D-B691-ACE4617F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4819D5-B1B0-48F7-B537-81A8E0C4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E62252-CA00-46F7-B305-5EC8E203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583268-BAF1-4E86-9C48-CF548B2A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82FE2E-A545-4EA6-A1F1-2324BED3E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291A-E41D-4922-956C-0A49A4496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EE84EE-8FA6-447B-BDBC-A8233858B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671F3-2CEE-49B6-BC63-581C67956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FCC4DF-C83D-4BDE-A7FD-BC46C063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B2A49-1875-4594-8F54-7604CA24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0A7323-3C28-45D2-A918-FB5FFFEF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8BFB62-3BE1-4FA6-841E-1C331F92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4B4CC0-8448-4A06-BDE7-11BEDABB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B9CD4-CEE2-4762-9429-20E01F9B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C02A5-FDCF-4067-8741-56271F27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5A8EE-1B83-45BA-92C6-D87B4B62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7451-5F8D-42E7-9679-856CB2C04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0442C-FDB7-471A-A26A-5E0CC4BF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1DCF2-A5DE-4D66-9D30-9CD0CD2C5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DD6A8D-6669-4FC5-88DE-1B9B4C43C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45D89F-BD15-42BD-8548-B11914BD2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4DC773-6AD7-4A50-B24A-2095FB4C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BE7CC4-EB4A-47CF-B022-FAA790CD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A08574-C275-4F57-BF7A-7F568FEA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C05FEA-277D-4437-ACFD-20C593F5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87102F-B284-4929-86A6-ADE0D3CF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89A4CF-8BCF-4B39-A6C7-BCBF0942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B71A-56DE-4F20-B7E8-5EF6A45C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62CFC3-2DEF-47E2-9BA4-743BDD0F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EB5024-8901-440C-BDEC-F356EE34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2F04E8-57E9-4F32-B691-7B344C4C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BCA1BB-A2D3-4EFE-B35C-569C51E54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DBE003-6A41-4648-AB5D-A9BB31FDA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0F20F2-F1F4-4F32-93B5-8ECC1A3D2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8BB546-606C-41DD-B002-9344EB92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B78486-186E-48FB-8F1A-4FB87178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38D877-3FBB-442F-AC39-B9FB2CF2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D5B31A-4AFD-47F4-9506-838CC9CD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E8A2-21EA-45A1-A6CA-38CC8135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17836A-D7D5-476E-AE6B-9F775FB9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00A4F6-F061-468A-99F5-CECA9210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CEE04A-B174-400B-9FFC-674BF4F8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12F3FC-F772-49FA-8F44-008A5BFC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9173C2-482A-4C2F-8B3A-0CD6C175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00E4D8-E1EC-4374-AE0C-E26E4045F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4FC655-3349-4A77-B70E-53A3AB93C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BD78F3-271B-40ED-9072-5D445D6E9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A81336-70D0-4215-918D-B47D11C2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C3584C-CF35-4A18-ABA6-997ED7B1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4B19-5718-4B4A-89CE-BBE784C4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D97BD4-F89A-40E7-B284-A87C1342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A28D03-A632-4A82-94E6-8BD1D3EB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264994-C423-49F3-A5EF-6997009E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F493BF-6C0A-4D04-996B-EDD7A2E9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F1A679-9722-47EE-887C-256E479A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FB3F95-85A3-4B20-A0BF-ADB37FD7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66FCE6-7335-4FB1-8C87-A1C11C1E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CF468A-A3FD-4999-AEF6-E925F3A90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57E359-D192-4BA4-A34A-128E9B830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1BEE84-3562-41F0-8F73-2676DBD71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AE73-B782-460A-BBDB-24A3CE0E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A6C273-0785-4784-BB9D-FC054D89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BA90D9-2555-4773-9165-94647E8C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CA5ADA-C8DE-45DB-AB22-CEF43A3C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3F55FD-EF9F-4D2D-ACD1-0A180F2D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7318DF-4F9F-4A2C-BC0A-540B8225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704D78-43F7-4AFD-85F1-3605EA54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A710D5-107F-4729-A2E9-C7999BD3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1A606E-7E2F-47E3-A54B-9BECDFD3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1F4B24-5561-46D8-AFB6-7D445BBD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77A5EA-C69F-4334-A6EA-2DD5B87D2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DF0C-3F32-4B2D-B730-4CE7057C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5ECEDF-74D6-409D-A4B0-27EC7F051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ADE42D-C49B-4B42-9077-29F7572DD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1A5D11-CA2A-41F8-A4A9-829E9690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052823-6062-4DA5-8224-CB6B382F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2456E3-EA7C-4969-AFBD-9BCDAA47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7774AA-FA37-449A-B3B0-21EC1F8B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857548-BE74-4887-8D2D-704D8580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33AFC8-ADAC-4484-AD08-1DA3910D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BA24DB-8EBC-4F54-94B2-F2716C59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43FD81-3B00-4439-93A6-3CD9CADE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73F4-5678-4CD8-86B8-466F22C8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1206C7-DC46-4C13-8695-25F3DA9D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DC54E6-EACA-4581-83E6-C61DF665C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F4929C-0AEF-49ED-96CA-7F1AFAF65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750E75-344E-46D9-B565-A3630CAEF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448066-BF5C-4472-A007-AB766016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9D99F2-0483-403F-A149-9731D500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68AE77-327C-42A0-B29A-81D64045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343301-4DBA-4140-87A2-642C7E02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5A75FC-32E0-4AAA-AB20-3D7DA326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687611-2F3D-4E64-A2B9-91AD0CF9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7D04-413D-4A79-9BED-24DF4DEE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2DA6-C94C-4276-A877-3481D496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F105E7-486D-4B27-B6AC-5EBA3653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D6D62D-EDAC-4E10-A6F0-34E80D7E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1E84FD-CF1C-4212-913E-443220A8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2F7797-5C64-4124-9D6A-8FE5C2542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A39616-096D-42C7-8155-186AADB2B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EF6C08-1740-47F4-824C-8DBDB16ED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7D1F3F-B7D9-4B63-9E8B-123BFC8C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2872A0-5295-4FA5-BDD8-DBEB18C6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D61DE6-3D59-45DD-AB35-FB2533A8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1CFC9A-B3C2-427E-8387-365882D2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2BDF-6B6F-4126-885E-5FFEB924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24F132-B21D-459E-B22D-0E196EFD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DE1082-018B-4E5B-BA0C-BD64D2B7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6116C6-D7EB-4C71-8973-CC6C74A0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0ECBA1-4935-440B-BBE8-8B3CDFEF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14717C-4FB9-4D70-A049-B286F013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C69364-9178-4C94-A2A0-F84C7936C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70452F-EF05-4A3D-9417-90B9C08B4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9A8C3B-E415-4135-8030-AB972CFEE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6CA630-DAE9-428B-9A85-63985927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18C7F5-8650-4CE3-A9F2-746852FC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2B96-3D75-4336-AE96-6EA6C085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B075C2-E54E-45EA-977E-7EEA004F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1490DA-6020-41D8-94D7-AF4FEFFA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D1033D-6C6A-474B-96D2-618249E2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BF579F-FB03-47CA-ABB9-97D3FC35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B1BB5D-5453-4F60-95DC-C19FB79D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AB8926-8C4D-4471-A85F-9B7EE984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D6B8C0-8173-4488-8643-3A4F11A3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F9E3C1-7DD5-46CC-A575-C9064AACC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020787-F333-42DF-9EA3-389C42AAE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5E3B7-D7A9-43DF-843C-9A10BC497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49F9C-06B5-42E6-B720-7F242EB13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F3E01-7F8D-4308-B5CA-AE6013FC5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BC6BD-0FC5-47CB-A2E1-7803D631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85889-BE68-490F-9738-B6A620BC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01D54-5051-4AE4-9264-0268D127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1E9F8-B24B-41E5-976F-4768BA65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240D-13F7-4B83-9B01-3F6F28F0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8F724-859F-49FF-912F-F3CF8EE3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9C791-B81E-4B29-99C6-77B46861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0EDED-3D7A-47C8-AF61-A4CC59B4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4F40C-91A2-4D15-B03D-F7EF1B26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24A9A-0556-45C9-BE82-9AA80FC0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E5695-53F2-4B8F-A12D-B003BB4CD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F8979-30FA-4DAF-AD32-EBDE5BE9F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9B76A-7242-4DAF-8A91-D38449EC1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9D186-FF9A-4E09-8349-63F50F2B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209E8-BD02-42BD-AA68-337F22D5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6E25-52EA-4490-9FA3-0F0B2D4F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1B224-152E-4464-B823-13A8F886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74CDF-640B-49F5-9547-A50B0248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18D4D-4DC7-4ABC-974D-388484B2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13731-333D-40B7-8BA9-3D062FCE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532B2-4149-4675-BA5D-06446E55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6BB15-73AA-4E03-B1F2-24CA0350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DF225-C165-4AB8-A5AD-0372589E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E69F9-4421-4F6D-8AB5-0201D7C26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785A7-F17A-45AB-A547-F07511834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6A235-3317-4CB1-A723-5F919FE39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6A18-315C-4EA6-8927-C23E050C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4F309-35BE-4135-87E6-827C85ED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83094-C640-4E74-BE70-633E7063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74BC6-3E7E-4890-A458-B2037918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69E46-EE8E-41D1-85D2-CC181DCD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0DB5C-F30D-4297-BFDC-92AD3840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C5137-C403-41B3-997E-D159CB80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91464-AA8B-4944-8B74-8757E412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21999-867A-4D11-B74B-C9356F9F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F39F4-6ED9-4AE8-A6F4-8BAA5E91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F3DA3-2732-45F9-97F8-B0C58CF74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9B66-AF84-474E-B552-5F58044B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97E8B-5E4C-4987-BEFF-24A27ADDF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4E1AC-3AC3-4B9B-BAFD-50C5FCB3D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9FA7B-3738-4C90-9F1A-A9EB7C93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79472-D221-4AEB-B870-A75FDFE5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E57EA-0CBC-40FD-881B-C40FD190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8EBFB-EFC9-4ECE-9F90-86F45418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93B1E-AB22-49B9-9A91-73A67037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BE6E1-AEB9-4C53-A9CA-CCF2DDAE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15A99-E943-4163-9C53-2C767184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1C819-C005-4155-B74A-7EC060B3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E37D-A859-4592-ADED-EB677C8B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FD1F1-6C85-4532-8B35-32BE1A68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777BE-43B8-47F7-B541-0C4980FE2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DAA4C-B42A-4061-B4C0-CA0D3A179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9043E-83EE-489F-B8EF-80A5EFAE1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487DC-5870-49FD-81A2-9F0958FE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31FAD-F3B3-4577-A5A2-13F7D952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E99AA-DBA0-4F81-958D-D35A7854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410CF-23FB-4099-9FF2-4C705EEA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AAF72-70EB-4E55-9007-91210F58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ACD55-4F7B-4FA1-BA27-7F9994A2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8763-5743-4F25-966E-299D5803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CE3B9-1740-4B45-BDEE-96AD95E7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A2193-FABE-469E-A9E8-61FFE6A5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FEFA1-F3DF-4AB0-A810-185A4384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6CCD6-B06E-4FE7-8DBC-4CF7DF3DC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FA4FC-8050-4311-8A93-6532F1487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9FB08-B1E1-4D45-BAF1-02C8B7F3C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30E79-0125-411C-AC0E-D2603047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21ED6-AB00-430D-B92F-DC433D57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B3E55-A398-45F0-BC21-A2322967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8AD94-6FEA-41EB-8C8E-F384CEAD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C693-3122-4494-8599-2279EF8A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E4A70-528E-4001-8A57-EF984277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E7059-1163-4700-A0D6-BB9862ED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BA8D8-D5D5-459C-BA03-56665533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11F6E-FAC6-43FB-8C0C-A032831C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E6E8A-1145-4E65-9A95-8A0D3857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FB4BD-D77C-4BB7-BDDD-AE120E084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8660F-2133-4138-A9E1-8BE80BA49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BB512-D591-468C-9182-6361017EA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CA8ED0-52C9-4625-A95C-3DED5FA1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B333EB-60FE-4C9D-B438-7A357E88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E5C5-B000-4D5D-AD90-7A6E7797ABA4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F34C-687D-4E0D-8253-D6B84199859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8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35D0-4067-4FB1-9730-74E5D64630E2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3119-7F48-4350-8419-C101F7CA727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7965-3CDA-4A8F-9141-CF5084EBE893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FCC7-688B-4C10-B689-4B270680B07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B5FE-1EC0-4824-9173-7204117117D9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F737-F0B8-4067-9013-B3280942F99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ECDA-022D-4658-81B1-31F62E91A575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E2EB-2F42-44DB-8959-D282ADA2D30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4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3FEE-A807-45BE-A028-2CA20B450883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4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4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4597-6B8C-441F-9714-C3A44CAB42D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4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BA41-0436-4C13-B4AB-3A1897CF32E9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4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4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A285-50F8-4511-B59B-CC09C7BEF7B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4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DE9C-360E-4982-ADEC-8988E4EA04F8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4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4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2140-AC28-423D-8326-59FCB41020A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dt" idx="4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BCB7-37EC-4007-B9F4-DCFB67497DA4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 type="ftr" idx="5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 type="sldNum" idx="5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5296-944A-4CF6-B00C-F89A0ED579F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5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D961-32F0-46F0-BAE1-278A031A8960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5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5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132D-D933-468D-BBAC-AD46D5A8D83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5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8995-826B-49E8-AA4E-E6CFB182C19B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5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5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3A03-C41B-4E93-B299-D6434F49A1C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BF89-D46D-4A76-A291-DB43396C0C9F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ADCC-9527-48A1-B8D7-5BFA3039A83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663C-0808-4F41-9E2B-FA6E8156CADC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A232-E7EA-4737-A21E-400733E8CB2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99A1-B5EE-4DA3-8120-255DDE11164E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9EF9-D4C8-4C6B-9B26-22516FA0095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182E-2DC2-4097-BB83-256F5CCBA127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8B7C-6908-4A02-BBA0-255C9AE2FA6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1731-47F5-4A35-AA97-DB5D4672D93E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CD2C-A210-4A2C-8AAA-87F3777DC9D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6B88-DE3C-4D12-98AE-5F0DF1FCF7B8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BC58-47E2-4579-8985-CDD9C78EC30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C426-F095-4670-BB32-DD0544DE681F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E15A-0858-4D89-93CF-D4E22ED251D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7BB1-C60F-4F27-86E7-D6F072300DBF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DBB1-64EF-41CC-A3D6-B65E871B73D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8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1 Rectángulo"/>
          <p:cNvSpPr/>
          <p:nvPr/>
        </p:nvSpPr>
        <p:spPr>
          <a:xfrm>
            <a:off x="611280" y="549360"/>
            <a:ext cx="7921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 Rounded MT Bold"/>
              </a:rPr>
              <a:t>Bolilla 5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ffff00"/>
                </a:solidFill>
                <a:uFillTx/>
                <a:latin typeface="Arial Rounded MT Bold"/>
              </a:rPr>
              <a:t>Metabolismo de los lípi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 Rounded MT Bold"/>
              </a:rPr>
              <a:t>- </a:t>
            </a:r>
            <a:r>
              <a:rPr b="1" lang="es-AR" sz="2800" spc="-1" strike="noStrike">
                <a:solidFill>
                  <a:srgbClr val="ffff59"/>
                </a:solidFill>
                <a:latin typeface="Arial Rounded MT Bold"/>
              </a:rPr>
              <a:t>Digestión y absorción de lípid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59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59"/>
                </a:solidFill>
                <a:latin typeface="Arial Rounded MT Bold"/>
              </a:rPr>
              <a:t>Transporte de lípid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59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59"/>
                </a:solidFill>
                <a:latin typeface="Arial Rounded MT Bold"/>
              </a:rPr>
              <a:t>Degradación de Ácidos Gras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59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59"/>
                </a:solidFill>
                <a:latin typeface="Arial Rounded MT Bold"/>
              </a:rPr>
              <a:t>Cuerpos cetónic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Arial Rounded MT Bold"/>
              </a:rPr>
              <a:t>Biosíntesis de Ácidos Gra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 Rounded MT Bold"/>
              </a:rPr>
              <a:t>- Metabolismo del colesterol. Regulación molecula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E35C-C3BF-4E26-94B0-1EB7EDDC96B0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791640" y="609120"/>
            <a:ext cx="812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Arial Narrow"/>
              </a:rPr>
              <a:t>Etapas de la Síntesis de Ac. Graso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871280" y="2384280"/>
            <a:ext cx="6643800" cy="330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Compren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Formación de malonil-Co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Reacciones catalizadas por el complejo multienzimático de 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Ácido graso sintas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6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D31D-231C-4CE8-958E-11F3D062DF69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83800" y="21564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ff00"/>
                </a:solidFill>
                <a:latin typeface="Arial Narrow"/>
              </a:rPr>
              <a:t>1) Formación de malonil-CoA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8317080" cy="24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una carboxilación que requiere H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como fuente de 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taliza: 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acetil-CoA carboxilas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que usa biotina (Vit B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) como coenz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Es el principal sitio de regulación de la síntesis de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81" name="Object 4"/>
          <p:cNvGraphicFramePr/>
          <p:nvPr/>
        </p:nvGraphicFramePr>
        <p:xfrm>
          <a:off x="431640" y="4365720"/>
          <a:ext cx="8282160" cy="138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4365720"/>
                    <a:ext cx="8282160" cy="13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ángulo 15"/>
          <p:cNvSpPr/>
          <p:nvPr/>
        </p:nvSpPr>
        <p:spPr>
          <a:xfrm rot="5400000">
            <a:off x="3201120" y="3319920"/>
            <a:ext cx="647640" cy="144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Cuadro de texto 17"/>
          <p:cNvSpPr/>
          <p:nvPr/>
        </p:nvSpPr>
        <p:spPr>
          <a:xfrm>
            <a:off x="687240" y="1197000"/>
            <a:ext cx="7704360" cy="268452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cetil-CoA Carboxil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-Proteína transportadora de biot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0" i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Biotina carboxil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-Transcarboxil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- Enzima Alosté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Cuadro de texto 23"/>
          <p:cNvSpPr/>
          <p:nvPr/>
        </p:nvSpPr>
        <p:spPr>
          <a:xfrm>
            <a:off x="1744560" y="333360"/>
            <a:ext cx="5761080" cy="5814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Arial"/>
              </a:rPr>
              <a:t>Acetil-CoA Carboxila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Rectángulo 24"/>
          <p:cNvSpPr/>
          <p:nvPr/>
        </p:nvSpPr>
        <p:spPr>
          <a:xfrm>
            <a:off x="687240" y="4351320"/>
            <a:ext cx="759636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Biotina:</a:t>
            </a:r>
            <a:r>
              <a:rPr b="1" lang="es-ES_tradnl" sz="2000" spc="-1" strike="noStrike">
                <a:solidFill>
                  <a:srgbClr val="ffff00"/>
                </a:solidFill>
                <a:latin typeface="Arial"/>
                <a:ea typeface="Arial"/>
              </a:rPr>
              <a:t> Grupo prostético de l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00"/>
                </a:solidFill>
                <a:latin typeface="Arial"/>
                <a:ea typeface="Arial"/>
              </a:rPr>
              <a:t>acetil-CoA Carboxila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1 CuadroTexto"/>
          <p:cNvSpPr/>
          <p:nvPr/>
        </p:nvSpPr>
        <p:spPr>
          <a:xfrm>
            <a:off x="1752840" y="5732640"/>
            <a:ext cx="6328440" cy="3682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  <a:ea typeface="Arial"/>
              </a:rPr>
              <a:t>TAMBIEN TIENE REGULACIÓN HORMONAL Y DIET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ángulo 4"/>
          <p:cNvSpPr/>
          <p:nvPr/>
        </p:nvSpPr>
        <p:spPr>
          <a:xfrm>
            <a:off x="25092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  <a:ea typeface="Arial"/>
              </a:rPr>
              <a:t>REACCION Y REGULACIÓN DE LA </a:t>
            </a:r>
            <a:r>
              <a:rPr b="1" i="1" lang="es-ES" sz="3200" spc="-1" strike="noStrike">
                <a:solidFill>
                  <a:srgbClr val="ffff00"/>
                </a:solidFill>
                <a:latin typeface="Arial"/>
                <a:ea typeface="Arial"/>
              </a:rPr>
              <a:t>ACETIL-CoA CARBOXILASA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Cuadro de texto 5"/>
          <p:cNvSpPr/>
          <p:nvPr/>
        </p:nvSpPr>
        <p:spPr>
          <a:xfrm>
            <a:off x="208080" y="3071880"/>
            <a:ext cx="144756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Acetil-C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Cuadro de texto 6"/>
          <p:cNvSpPr/>
          <p:nvPr/>
        </p:nvSpPr>
        <p:spPr>
          <a:xfrm>
            <a:off x="3203640" y="3284640"/>
            <a:ext cx="1655640" cy="717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3300"/>
                </a:solidFill>
                <a:latin typeface="Arial"/>
                <a:ea typeface="Arial"/>
              </a:rPr>
              <a:t>Acetil-CoA carboxil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Cuadro de texto 7"/>
          <p:cNvSpPr/>
          <p:nvPr/>
        </p:nvSpPr>
        <p:spPr>
          <a:xfrm>
            <a:off x="2340000" y="3068640"/>
            <a:ext cx="838080" cy="405720"/>
          </a:xfrm>
          <a:prstGeom prst="rect">
            <a:avLst/>
          </a:prstGeom>
          <a:solidFill>
            <a:srgbClr val="f9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  <a:ea typeface="Arial"/>
              </a:rPr>
              <a:t>HCO</a:t>
            </a:r>
            <a:r>
              <a:rPr b="1" lang="es-ES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3</a:t>
            </a:r>
            <a:r>
              <a:rPr b="1" lang="es-ES" sz="18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Cuadro de texto 9"/>
          <p:cNvSpPr/>
          <p:nvPr/>
        </p:nvSpPr>
        <p:spPr>
          <a:xfrm>
            <a:off x="6084720" y="4005360"/>
            <a:ext cx="172728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Malonil-C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Cuadro de texto 10"/>
          <p:cNvSpPr/>
          <p:nvPr/>
        </p:nvSpPr>
        <p:spPr>
          <a:xfrm>
            <a:off x="324000" y="2852640"/>
            <a:ext cx="194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Imagen 11"/>
          <p:cNvSpPr/>
          <p:nvPr/>
        </p:nvSpPr>
        <p:spPr>
          <a:xfrm>
            <a:off x="250920" y="2565360"/>
            <a:ext cx="20113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Línea 12"/>
          <p:cNvSpPr/>
          <p:nvPr/>
        </p:nvSpPr>
        <p:spPr>
          <a:xfrm>
            <a:off x="3276720" y="3284640"/>
            <a:ext cx="194616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Cuadro de texto 13"/>
          <p:cNvSpPr/>
          <p:nvPr/>
        </p:nvSpPr>
        <p:spPr>
          <a:xfrm>
            <a:off x="3276720" y="278136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ATP      ADP + Pi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Autoforma 14"/>
          <p:cNvSpPr/>
          <p:nvPr/>
        </p:nvSpPr>
        <p:spPr>
          <a:xfrm>
            <a:off x="3708360" y="3068640"/>
            <a:ext cx="792360" cy="216000"/>
          </a:xfrm>
          <a:custGeom>
            <a:avLst/>
            <a:gdLst>
              <a:gd name="textAreaLeft" fmla="*/ 138600 w 792360"/>
              <a:gd name="textAreaRight" fmla="*/ 574560 w 79236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Cuadro de texto 16"/>
          <p:cNvSpPr/>
          <p:nvPr/>
        </p:nvSpPr>
        <p:spPr>
          <a:xfrm>
            <a:off x="1692360" y="306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9" name="Grupo 20"/>
          <p:cNvGrpSpPr/>
          <p:nvPr/>
        </p:nvGrpSpPr>
        <p:grpSpPr>
          <a:xfrm>
            <a:off x="5292720" y="2276640"/>
            <a:ext cx="3959280" cy="1617480"/>
            <a:chOff x="5292720" y="2276640"/>
            <a:chExt cx="3959280" cy="1617480"/>
          </a:xfrm>
        </p:grpSpPr>
        <p:pic>
          <p:nvPicPr>
            <p:cNvPr id="900" name="Imagen 17" descr="MALONCOA"/>
            <p:cNvPicPr/>
            <p:nvPr/>
          </p:nvPicPr>
          <p:blipFill>
            <a:blip r:embed="rId1"/>
            <a:srcRect l="0" t="0" r="17937" b="18488"/>
            <a:stretch/>
          </p:blipFill>
          <p:spPr>
            <a:xfrm>
              <a:off x="5292720" y="2276640"/>
              <a:ext cx="3166920" cy="16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1" name="Cuadro de texto 19"/>
            <p:cNvSpPr/>
            <p:nvPr/>
          </p:nvSpPr>
          <p:spPr>
            <a:xfrm>
              <a:off x="8459640" y="292428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+ H+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2" name="Cuadro de texto 22"/>
          <p:cNvSpPr/>
          <p:nvPr/>
        </p:nvSpPr>
        <p:spPr>
          <a:xfrm>
            <a:off x="5219640" y="2349360"/>
            <a:ext cx="1368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Cuadro de texto 24"/>
          <p:cNvSpPr/>
          <p:nvPr/>
        </p:nvSpPr>
        <p:spPr>
          <a:xfrm>
            <a:off x="826920" y="5157720"/>
            <a:ext cx="1656000" cy="717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3300"/>
                </a:solidFill>
                <a:latin typeface="Arial"/>
                <a:ea typeface="Arial"/>
              </a:rPr>
              <a:t>Acetil-CoA carboxil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Autoforma 25"/>
          <p:cNvSpPr/>
          <p:nvPr/>
        </p:nvSpPr>
        <p:spPr>
          <a:xfrm>
            <a:off x="2843280" y="4581360"/>
            <a:ext cx="504720" cy="1872000"/>
          </a:xfrm>
          <a:custGeom>
            <a:avLst/>
            <a:gdLst>
              <a:gd name="textAreaLeft" fmla="*/ 322560 w 504720"/>
              <a:gd name="textAreaRight" fmla="*/ 505080 w 504720"/>
              <a:gd name="textAreaTop" fmla="*/ 48600 h 1872000"/>
              <a:gd name="textAreaBottom" fmla="*/ 1823400 h 18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Cuadro de texto 26"/>
          <p:cNvSpPr/>
          <p:nvPr/>
        </p:nvSpPr>
        <p:spPr>
          <a:xfrm rot="20057400">
            <a:off x="4354200" y="3860640"/>
            <a:ext cx="1079640" cy="368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Arial"/>
                <a:ea typeface="Arial"/>
              </a:rPr>
              <a:t>biot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Cuadro de texto 27"/>
          <p:cNvSpPr/>
          <p:nvPr/>
        </p:nvSpPr>
        <p:spPr>
          <a:xfrm>
            <a:off x="3203640" y="5084640"/>
            <a:ext cx="1224000" cy="3682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Díme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Cuadro de texto 28"/>
          <p:cNvSpPr/>
          <p:nvPr/>
        </p:nvSpPr>
        <p:spPr>
          <a:xfrm>
            <a:off x="6732720" y="5013360"/>
            <a:ext cx="2087280" cy="642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Forma filamento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Línea 29"/>
          <p:cNvSpPr/>
          <p:nvPr/>
        </p:nvSpPr>
        <p:spPr>
          <a:xfrm>
            <a:off x="4932360" y="5229360"/>
            <a:ext cx="12240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Elipse 30"/>
          <p:cNvSpPr/>
          <p:nvPr/>
        </p:nvSpPr>
        <p:spPr>
          <a:xfrm>
            <a:off x="4896000" y="4653000"/>
            <a:ext cx="1188720" cy="576360"/>
          </a:xfrm>
          <a:prstGeom prst="ellipse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Arial"/>
              </a:rPr>
              <a:t>Citrato (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Elipse 31"/>
          <p:cNvSpPr/>
          <p:nvPr/>
        </p:nvSpPr>
        <p:spPr>
          <a:xfrm>
            <a:off x="3348000" y="5516640"/>
            <a:ext cx="1224000" cy="576360"/>
          </a:xfrm>
          <a:prstGeom prst="ellipse">
            <a:avLst/>
          </a:prstGeom>
          <a:solidFill>
            <a:srgbClr val="f6fa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  <a:ea typeface="Arial"/>
              </a:rPr>
              <a:t>Inac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Elipse 32"/>
          <p:cNvSpPr/>
          <p:nvPr/>
        </p:nvSpPr>
        <p:spPr>
          <a:xfrm>
            <a:off x="7308720" y="5661000"/>
            <a:ext cx="1224000" cy="576360"/>
          </a:xfrm>
          <a:prstGeom prst="ellipse">
            <a:avLst/>
          </a:prstGeom>
          <a:solidFill>
            <a:srgbClr val="f6fa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  <a:ea typeface="Arial"/>
              </a:rPr>
              <a:t>Ac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Línea 33"/>
          <p:cNvSpPr/>
          <p:nvPr/>
        </p:nvSpPr>
        <p:spPr>
          <a:xfrm flipH="1">
            <a:off x="5003280" y="5445000"/>
            <a:ext cx="108108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Elipse 34"/>
          <p:cNvSpPr/>
          <p:nvPr/>
        </p:nvSpPr>
        <p:spPr>
          <a:xfrm>
            <a:off x="4859280" y="5516640"/>
            <a:ext cx="1871640" cy="792000"/>
          </a:xfrm>
          <a:prstGeom prst="ellipse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  <a:ea typeface="Arial"/>
              </a:rPr>
              <a:t>AG de caden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  <a:ea typeface="Arial"/>
              </a:rPr>
              <a:t>Larga (-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5705-AD63-4775-A649-F293BF787CC7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72600" y="17892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ff00"/>
                </a:solidFill>
                <a:latin typeface="Arial Narrow"/>
              </a:rPr>
              <a:t>2) Reacciones de la acido graso sintasa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1476360" y="1412640"/>
            <a:ext cx="7439040" cy="497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taliza la síntesis de AG de hasta 16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Formada por 2 subunidades idénticas con orientación opuesta, cada una con 3 domini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Dominio 1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ingreso de sustratos y unidad de condensación. Contiene 3 enzim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ff00"/>
                </a:solidFill>
                <a:latin typeface="Arial"/>
              </a:rPr>
              <a:t>Acetil transferasa (A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Malonil transferasa (M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ffff"/>
                </a:solidFill>
                <a:latin typeface="Arial"/>
              </a:rPr>
              <a:t>Enzima condensante (KS) o Cetoacil sintasa con resto de Cisteí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Dominio 2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unidad de reducción. Contiene 3 enzim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33"/>
                </a:solidFill>
                <a:latin typeface="Arial"/>
              </a:rPr>
              <a:t>Cetoacil reductasa (K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idroxiacil deshidratasa (H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Enoil reductasa (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see la proteína transportadora de acilos AC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Dominio 3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liberación de AG. Posee la enzim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33"/>
                </a:solidFill>
                <a:latin typeface="Arial"/>
              </a:rPr>
              <a:t>Tioesterasa o Deacilas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7" name="Picture 16" descr=""/>
          <p:cNvPicPr/>
          <p:nvPr/>
        </p:nvPicPr>
        <p:blipFill>
          <a:blip r:embed="rId1"/>
          <a:srcRect l="27852" t="0" r="4160" b="59988"/>
          <a:stretch/>
        </p:blipFill>
        <p:spPr>
          <a:xfrm>
            <a:off x="154080" y="3130560"/>
            <a:ext cx="2300040" cy="2162160"/>
          </a:xfrm>
          <a:prstGeom prst="rect">
            <a:avLst/>
          </a:prstGeom>
          <a:ln w="0">
            <a:noFill/>
          </a:ln>
        </p:spPr>
      </p:pic>
      <p:sp>
        <p:nvSpPr>
          <p:cNvPr id="918" name="6 CuadroTexto"/>
          <p:cNvSpPr/>
          <p:nvPr/>
        </p:nvSpPr>
        <p:spPr>
          <a:xfrm>
            <a:off x="191160" y="5327640"/>
            <a:ext cx="200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Una subunidad de Acido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Graso Sintetas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Forma libre 137"/>
          <p:cNvSpPr/>
          <p:nvPr/>
        </p:nvSpPr>
        <p:spPr>
          <a:xfrm>
            <a:off x="4525920" y="4741920"/>
            <a:ext cx="4187880" cy="1631880"/>
          </a:xfrm>
          <a:custGeom>
            <a:avLst/>
            <a:gdLst/>
            <a:ahLst/>
            <a:rect l="l" t="t" r="r" b="b"/>
            <a:pathLst>
              <a:path w="2638" h="1028">
                <a:moveTo>
                  <a:pt x="269" y="469"/>
                </a:moveTo>
                <a:cubicBezTo>
                  <a:pt x="197" y="525"/>
                  <a:pt x="0" y="667"/>
                  <a:pt x="29" y="757"/>
                </a:cubicBezTo>
                <a:cubicBezTo>
                  <a:pt x="58" y="847"/>
                  <a:pt x="278" y="996"/>
                  <a:pt x="446" y="1012"/>
                </a:cubicBezTo>
                <a:cubicBezTo>
                  <a:pt x="614" y="1028"/>
                  <a:pt x="934" y="909"/>
                  <a:pt x="1037" y="853"/>
                </a:cubicBezTo>
                <a:cubicBezTo>
                  <a:pt x="1140" y="797"/>
                  <a:pt x="1000" y="686"/>
                  <a:pt x="1064" y="678"/>
                </a:cubicBezTo>
                <a:cubicBezTo>
                  <a:pt x="1128" y="670"/>
                  <a:pt x="1269" y="804"/>
                  <a:pt x="1421" y="805"/>
                </a:cubicBezTo>
                <a:cubicBezTo>
                  <a:pt x="1573" y="806"/>
                  <a:pt x="1894" y="750"/>
                  <a:pt x="1974" y="686"/>
                </a:cubicBezTo>
                <a:cubicBezTo>
                  <a:pt x="2054" y="622"/>
                  <a:pt x="1809" y="457"/>
                  <a:pt x="1901" y="421"/>
                </a:cubicBezTo>
                <a:cubicBezTo>
                  <a:pt x="1993" y="385"/>
                  <a:pt x="2421" y="528"/>
                  <a:pt x="2525" y="469"/>
                </a:cubicBezTo>
                <a:cubicBezTo>
                  <a:pt x="2629" y="410"/>
                  <a:pt x="2638" y="136"/>
                  <a:pt x="2525" y="68"/>
                </a:cubicBezTo>
                <a:cubicBezTo>
                  <a:pt x="2412" y="0"/>
                  <a:pt x="1969" y="9"/>
                  <a:pt x="1849" y="60"/>
                </a:cubicBezTo>
                <a:cubicBezTo>
                  <a:pt x="1729" y="111"/>
                  <a:pt x="1852" y="329"/>
                  <a:pt x="1805" y="373"/>
                </a:cubicBezTo>
                <a:cubicBezTo>
                  <a:pt x="1758" y="417"/>
                  <a:pt x="1669" y="333"/>
                  <a:pt x="1565" y="325"/>
                </a:cubicBezTo>
                <a:cubicBezTo>
                  <a:pt x="1461" y="317"/>
                  <a:pt x="1276" y="287"/>
                  <a:pt x="1181" y="325"/>
                </a:cubicBezTo>
                <a:cubicBezTo>
                  <a:pt x="1086" y="363"/>
                  <a:pt x="1061" y="531"/>
                  <a:pt x="997" y="552"/>
                </a:cubicBezTo>
                <a:cubicBezTo>
                  <a:pt x="933" y="573"/>
                  <a:pt x="886" y="474"/>
                  <a:pt x="797" y="452"/>
                </a:cubicBezTo>
                <a:cubicBezTo>
                  <a:pt x="708" y="430"/>
                  <a:pt x="549" y="418"/>
                  <a:pt x="461" y="421"/>
                </a:cubicBezTo>
                <a:cubicBezTo>
                  <a:pt x="373" y="424"/>
                  <a:pt x="341" y="413"/>
                  <a:pt x="269" y="469"/>
                </a:cubicBezTo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Forma libre 136"/>
          <p:cNvSpPr/>
          <p:nvPr/>
        </p:nvSpPr>
        <p:spPr>
          <a:xfrm>
            <a:off x="-11160" y="4925880"/>
            <a:ext cx="4233960" cy="1703520"/>
          </a:xfrm>
          <a:custGeom>
            <a:avLst/>
            <a:gdLst/>
            <a:ahLst/>
            <a:rect l="l" t="t" r="r" b="b"/>
            <a:pathLst>
              <a:path w="2667" h="1073">
                <a:moveTo>
                  <a:pt x="274" y="161"/>
                </a:moveTo>
                <a:cubicBezTo>
                  <a:pt x="199" y="221"/>
                  <a:pt x="48" y="318"/>
                  <a:pt x="24" y="445"/>
                </a:cubicBezTo>
                <a:cubicBezTo>
                  <a:pt x="0" y="572"/>
                  <a:pt x="54" y="936"/>
                  <a:pt x="132" y="921"/>
                </a:cubicBezTo>
                <a:cubicBezTo>
                  <a:pt x="210" y="906"/>
                  <a:pt x="410" y="354"/>
                  <a:pt x="491" y="353"/>
                </a:cubicBezTo>
                <a:cubicBezTo>
                  <a:pt x="572" y="352"/>
                  <a:pt x="489" y="797"/>
                  <a:pt x="619" y="914"/>
                </a:cubicBezTo>
                <a:cubicBezTo>
                  <a:pt x="749" y="1031"/>
                  <a:pt x="1148" y="1070"/>
                  <a:pt x="1268" y="1054"/>
                </a:cubicBezTo>
                <a:cubicBezTo>
                  <a:pt x="1388" y="1038"/>
                  <a:pt x="1299" y="819"/>
                  <a:pt x="1339" y="818"/>
                </a:cubicBezTo>
                <a:cubicBezTo>
                  <a:pt x="1379" y="817"/>
                  <a:pt x="1372" y="1023"/>
                  <a:pt x="1506" y="1048"/>
                </a:cubicBezTo>
                <a:cubicBezTo>
                  <a:pt x="1640" y="1073"/>
                  <a:pt x="2068" y="1025"/>
                  <a:pt x="2144" y="971"/>
                </a:cubicBezTo>
                <a:cubicBezTo>
                  <a:pt x="2220" y="917"/>
                  <a:pt x="1894" y="750"/>
                  <a:pt x="1963" y="722"/>
                </a:cubicBezTo>
                <a:cubicBezTo>
                  <a:pt x="2032" y="694"/>
                  <a:pt x="2455" y="828"/>
                  <a:pt x="2561" y="804"/>
                </a:cubicBezTo>
                <a:cubicBezTo>
                  <a:pt x="2667" y="780"/>
                  <a:pt x="2644" y="650"/>
                  <a:pt x="2600" y="580"/>
                </a:cubicBezTo>
                <a:cubicBezTo>
                  <a:pt x="2556" y="510"/>
                  <a:pt x="2404" y="408"/>
                  <a:pt x="2299" y="386"/>
                </a:cubicBezTo>
                <a:cubicBezTo>
                  <a:pt x="2194" y="364"/>
                  <a:pt x="2055" y="413"/>
                  <a:pt x="1969" y="445"/>
                </a:cubicBezTo>
                <a:cubicBezTo>
                  <a:pt x="1883" y="477"/>
                  <a:pt x="1887" y="531"/>
                  <a:pt x="1785" y="578"/>
                </a:cubicBezTo>
                <a:cubicBezTo>
                  <a:pt x="1683" y="625"/>
                  <a:pt x="1451" y="731"/>
                  <a:pt x="1359" y="729"/>
                </a:cubicBezTo>
                <a:cubicBezTo>
                  <a:pt x="1267" y="727"/>
                  <a:pt x="1307" y="595"/>
                  <a:pt x="1230" y="563"/>
                </a:cubicBezTo>
                <a:cubicBezTo>
                  <a:pt x="1153" y="531"/>
                  <a:pt x="967" y="552"/>
                  <a:pt x="897" y="538"/>
                </a:cubicBezTo>
                <a:cubicBezTo>
                  <a:pt x="827" y="524"/>
                  <a:pt x="801" y="515"/>
                  <a:pt x="811" y="482"/>
                </a:cubicBezTo>
                <a:cubicBezTo>
                  <a:pt x="821" y="449"/>
                  <a:pt x="939" y="402"/>
                  <a:pt x="955" y="338"/>
                </a:cubicBezTo>
                <a:cubicBezTo>
                  <a:pt x="971" y="274"/>
                  <a:pt x="963" y="154"/>
                  <a:pt x="907" y="98"/>
                </a:cubicBezTo>
                <a:cubicBezTo>
                  <a:pt x="851" y="42"/>
                  <a:pt x="691" y="4"/>
                  <a:pt x="619" y="2"/>
                </a:cubicBezTo>
                <a:cubicBezTo>
                  <a:pt x="547" y="0"/>
                  <a:pt x="531" y="60"/>
                  <a:pt x="474" y="86"/>
                </a:cubicBezTo>
                <a:cubicBezTo>
                  <a:pt x="417" y="112"/>
                  <a:pt x="316" y="146"/>
                  <a:pt x="274" y="161"/>
                </a:cubicBezTo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Cuadro de texto 115"/>
          <p:cNvSpPr/>
          <p:nvPr/>
        </p:nvSpPr>
        <p:spPr>
          <a:xfrm>
            <a:off x="762120" y="312408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Cisteí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Elipse 44"/>
          <p:cNvSpPr/>
          <p:nvPr/>
        </p:nvSpPr>
        <p:spPr>
          <a:xfrm>
            <a:off x="3352680" y="2514600"/>
            <a:ext cx="2210040" cy="600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ubunidad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Cuadro de texto 75"/>
          <p:cNvSpPr/>
          <p:nvPr/>
        </p:nvSpPr>
        <p:spPr>
          <a:xfrm>
            <a:off x="7315200" y="28195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4´Fosfo  panteteí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Forma libre 117"/>
          <p:cNvSpPr/>
          <p:nvPr/>
        </p:nvSpPr>
        <p:spPr>
          <a:xfrm>
            <a:off x="4325760" y="1244520"/>
            <a:ext cx="4818240" cy="1766880"/>
          </a:xfrm>
          <a:custGeom>
            <a:avLst/>
            <a:gdLst/>
            <a:ahLst/>
            <a:rect l="l" t="t" r="r" b="b"/>
            <a:pathLst>
              <a:path w="3035" h="1113">
                <a:moveTo>
                  <a:pt x="97" y="51"/>
                </a:moveTo>
                <a:cubicBezTo>
                  <a:pt x="0" y="102"/>
                  <a:pt x="0" y="304"/>
                  <a:pt x="72" y="368"/>
                </a:cubicBezTo>
                <a:cubicBezTo>
                  <a:pt x="144" y="432"/>
                  <a:pt x="429" y="379"/>
                  <a:pt x="531" y="435"/>
                </a:cubicBezTo>
                <a:cubicBezTo>
                  <a:pt x="633" y="491"/>
                  <a:pt x="575" y="653"/>
                  <a:pt x="681" y="702"/>
                </a:cubicBezTo>
                <a:cubicBezTo>
                  <a:pt x="787" y="751"/>
                  <a:pt x="1089" y="668"/>
                  <a:pt x="1165" y="727"/>
                </a:cubicBezTo>
                <a:cubicBezTo>
                  <a:pt x="1241" y="786"/>
                  <a:pt x="1020" y="993"/>
                  <a:pt x="1140" y="1053"/>
                </a:cubicBezTo>
                <a:cubicBezTo>
                  <a:pt x="1260" y="1113"/>
                  <a:pt x="1744" y="1105"/>
                  <a:pt x="1883" y="1088"/>
                </a:cubicBezTo>
                <a:cubicBezTo>
                  <a:pt x="2022" y="1071"/>
                  <a:pt x="1887" y="968"/>
                  <a:pt x="1975" y="952"/>
                </a:cubicBezTo>
                <a:cubicBezTo>
                  <a:pt x="2063" y="936"/>
                  <a:pt x="2332" y="1002"/>
                  <a:pt x="2411" y="992"/>
                </a:cubicBezTo>
                <a:cubicBezTo>
                  <a:pt x="2490" y="982"/>
                  <a:pt x="2446" y="923"/>
                  <a:pt x="2451" y="894"/>
                </a:cubicBezTo>
                <a:cubicBezTo>
                  <a:pt x="2456" y="865"/>
                  <a:pt x="2385" y="835"/>
                  <a:pt x="2442" y="819"/>
                </a:cubicBezTo>
                <a:cubicBezTo>
                  <a:pt x="2499" y="803"/>
                  <a:pt x="2699" y="821"/>
                  <a:pt x="2795" y="800"/>
                </a:cubicBezTo>
                <a:cubicBezTo>
                  <a:pt x="2891" y="779"/>
                  <a:pt x="3035" y="751"/>
                  <a:pt x="3018" y="694"/>
                </a:cubicBezTo>
                <a:cubicBezTo>
                  <a:pt x="3001" y="637"/>
                  <a:pt x="2769" y="505"/>
                  <a:pt x="2693" y="460"/>
                </a:cubicBezTo>
                <a:cubicBezTo>
                  <a:pt x="2617" y="415"/>
                  <a:pt x="2616" y="429"/>
                  <a:pt x="2559" y="426"/>
                </a:cubicBezTo>
                <a:cubicBezTo>
                  <a:pt x="2502" y="423"/>
                  <a:pt x="2407" y="417"/>
                  <a:pt x="2350" y="443"/>
                </a:cubicBezTo>
                <a:cubicBezTo>
                  <a:pt x="2293" y="469"/>
                  <a:pt x="2242" y="541"/>
                  <a:pt x="2217" y="585"/>
                </a:cubicBezTo>
                <a:cubicBezTo>
                  <a:pt x="2192" y="629"/>
                  <a:pt x="2242" y="670"/>
                  <a:pt x="2200" y="710"/>
                </a:cubicBezTo>
                <a:cubicBezTo>
                  <a:pt x="2158" y="750"/>
                  <a:pt x="2034" y="820"/>
                  <a:pt x="1966" y="827"/>
                </a:cubicBezTo>
                <a:cubicBezTo>
                  <a:pt x="1898" y="834"/>
                  <a:pt x="1859" y="773"/>
                  <a:pt x="1791" y="752"/>
                </a:cubicBezTo>
                <a:cubicBezTo>
                  <a:pt x="1723" y="731"/>
                  <a:pt x="1614" y="726"/>
                  <a:pt x="1557" y="702"/>
                </a:cubicBezTo>
                <a:cubicBezTo>
                  <a:pt x="1500" y="678"/>
                  <a:pt x="1487" y="661"/>
                  <a:pt x="1451" y="608"/>
                </a:cubicBezTo>
                <a:cubicBezTo>
                  <a:pt x="1415" y="555"/>
                  <a:pt x="1403" y="436"/>
                  <a:pt x="1340" y="385"/>
                </a:cubicBezTo>
                <a:cubicBezTo>
                  <a:pt x="1277" y="334"/>
                  <a:pt x="1158" y="320"/>
                  <a:pt x="1073" y="301"/>
                </a:cubicBezTo>
                <a:cubicBezTo>
                  <a:pt x="988" y="282"/>
                  <a:pt x="897" y="312"/>
                  <a:pt x="827" y="272"/>
                </a:cubicBezTo>
                <a:cubicBezTo>
                  <a:pt x="757" y="232"/>
                  <a:pt x="778" y="96"/>
                  <a:pt x="656" y="59"/>
                </a:cubicBezTo>
                <a:cubicBezTo>
                  <a:pt x="534" y="22"/>
                  <a:pt x="194" y="0"/>
                  <a:pt x="97" y="51"/>
                </a:cubicBezTo>
                <a:close/>
              </a:path>
            </a:pathLst>
          </a:custGeom>
          <a:solidFill>
            <a:srgbClr val="ccff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Forma libre 58"/>
          <p:cNvSpPr/>
          <p:nvPr/>
        </p:nvSpPr>
        <p:spPr>
          <a:xfrm>
            <a:off x="585720" y="1424160"/>
            <a:ext cx="3611520" cy="1671480"/>
          </a:xfrm>
          <a:custGeom>
            <a:avLst/>
            <a:gdLst/>
            <a:ahLst/>
            <a:rect l="l" t="t" r="r" b="b"/>
            <a:pathLst>
              <a:path w="2275" h="1053">
                <a:moveTo>
                  <a:pt x="104" y="989"/>
                </a:moveTo>
                <a:cubicBezTo>
                  <a:pt x="208" y="1053"/>
                  <a:pt x="575" y="999"/>
                  <a:pt x="680" y="941"/>
                </a:cubicBezTo>
                <a:cubicBezTo>
                  <a:pt x="785" y="883"/>
                  <a:pt x="731" y="707"/>
                  <a:pt x="735" y="639"/>
                </a:cubicBezTo>
                <a:cubicBezTo>
                  <a:pt x="739" y="571"/>
                  <a:pt x="666" y="549"/>
                  <a:pt x="704" y="531"/>
                </a:cubicBezTo>
                <a:cubicBezTo>
                  <a:pt x="742" y="513"/>
                  <a:pt x="852" y="545"/>
                  <a:pt x="964" y="531"/>
                </a:cubicBezTo>
                <a:cubicBezTo>
                  <a:pt x="1076" y="517"/>
                  <a:pt x="1292" y="448"/>
                  <a:pt x="1375" y="444"/>
                </a:cubicBezTo>
                <a:cubicBezTo>
                  <a:pt x="1458" y="440"/>
                  <a:pt x="1448" y="497"/>
                  <a:pt x="1462" y="507"/>
                </a:cubicBezTo>
                <a:cubicBezTo>
                  <a:pt x="1476" y="517"/>
                  <a:pt x="1442" y="506"/>
                  <a:pt x="1462" y="507"/>
                </a:cubicBezTo>
                <a:cubicBezTo>
                  <a:pt x="1482" y="508"/>
                  <a:pt x="1461" y="509"/>
                  <a:pt x="1580" y="515"/>
                </a:cubicBezTo>
                <a:cubicBezTo>
                  <a:pt x="1699" y="521"/>
                  <a:pt x="2075" y="607"/>
                  <a:pt x="2175" y="543"/>
                </a:cubicBezTo>
                <a:cubicBezTo>
                  <a:pt x="2275" y="479"/>
                  <a:pt x="2238" y="206"/>
                  <a:pt x="2180" y="129"/>
                </a:cubicBezTo>
                <a:cubicBezTo>
                  <a:pt x="2122" y="52"/>
                  <a:pt x="1938" y="71"/>
                  <a:pt x="1825" y="81"/>
                </a:cubicBezTo>
                <a:cubicBezTo>
                  <a:pt x="1712" y="91"/>
                  <a:pt x="1584" y="189"/>
                  <a:pt x="1501" y="192"/>
                </a:cubicBezTo>
                <a:cubicBezTo>
                  <a:pt x="1418" y="195"/>
                  <a:pt x="1481" y="119"/>
                  <a:pt x="1327" y="97"/>
                </a:cubicBezTo>
                <a:cubicBezTo>
                  <a:pt x="1173" y="75"/>
                  <a:pt x="725" y="0"/>
                  <a:pt x="578" y="58"/>
                </a:cubicBezTo>
                <a:cubicBezTo>
                  <a:pt x="431" y="116"/>
                  <a:pt x="534" y="364"/>
                  <a:pt x="447" y="447"/>
                </a:cubicBezTo>
                <a:cubicBezTo>
                  <a:pt x="360" y="530"/>
                  <a:pt x="114" y="465"/>
                  <a:pt x="57" y="555"/>
                </a:cubicBezTo>
                <a:cubicBezTo>
                  <a:pt x="0" y="645"/>
                  <a:pt x="0" y="925"/>
                  <a:pt x="104" y="989"/>
                </a:cubicBezTo>
                <a:close/>
              </a:path>
            </a:pathLst>
          </a:custGeom>
          <a:solidFill>
            <a:srgbClr val="ccff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Elipse 55"/>
          <p:cNvSpPr/>
          <p:nvPr/>
        </p:nvSpPr>
        <p:spPr>
          <a:xfrm>
            <a:off x="3344760" y="4808520"/>
            <a:ext cx="2451240" cy="601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ubunidad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Cuadro de texto 54"/>
          <p:cNvSpPr/>
          <p:nvPr/>
        </p:nvSpPr>
        <p:spPr>
          <a:xfrm>
            <a:off x="609480" y="3886200"/>
            <a:ext cx="7925040" cy="150840"/>
          </a:xfrm>
          <a:prstGeom prst="rect">
            <a:avLst/>
          </a:prstGeom>
          <a:solidFill>
            <a:srgbClr val="c0c0c0">
              <a:alpha val="5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Línea 56"/>
          <p:cNvSpPr/>
          <p:nvPr/>
        </p:nvSpPr>
        <p:spPr>
          <a:xfrm>
            <a:off x="4226040" y="1492200"/>
            <a:ext cx="0" cy="4702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343080" y="260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 Narrow"/>
              </a:rPr>
              <a:t>Esquema Complejo ácido graso sintasa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30" name="Cuadro de texto 62"/>
          <p:cNvSpPr/>
          <p:nvPr/>
        </p:nvSpPr>
        <p:spPr>
          <a:xfrm>
            <a:off x="7620120" y="26668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Cuadro de texto 63"/>
          <p:cNvSpPr/>
          <p:nvPr/>
        </p:nvSpPr>
        <p:spPr>
          <a:xfrm>
            <a:off x="1066680" y="2895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Cuadro de texto 64"/>
          <p:cNvSpPr/>
          <p:nvPr/>
        </p:nvSpPr>
        <p:spPr>
          <a:xfrm>
            <a:off x="8305920" y="2133720"/>
            <a:ext cx="1143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Cuadro de texto 67"/>
          <p:cNvSpPr/>
          <p:nvPr/>
        </p:nvSpPr>
        <p:spPr>
          <a:xfrm>
            <a:off x="5334120" y="175248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Enoi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reduc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Rectángulo 68"/>
          <p:cNvSpPr/>
          <p:nvPr/>
        </p:nvSpPr>
        <p:spPr>
          <a:xfrm>
            <a:off x="4343400" y="14479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Hidra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Rectángulo 69"/>
          <p:cNvSpPr/>
          <p:nvPr/>
        </p:nvSpPr>
        <p:spPr>
          <a:xfrm>
            <a:off x="1274760" y="160020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cetil Transacilas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Cuadro de texto 70"/>
          <p:cNvSpPr/>
          <p:nvPr/>
        </p:nvSpPr>
        <p:spPr>
          <a:xfrm>
            <a:off x="685800" y="236232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Cetoacil sin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Rectángulo 71"/>
          <p:cNvSpPr/>
          <p:nvPr/>
        </p:nvSpPr>
        <p:spPr>
          <a:xfrm>
            <a:off x="2743200" y="167652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Maloni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Transacilas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Cuadro de texto 72"/>
          <p:cNvSpPr/>
          <p:nvPr/>
        </p:nvSpPr>
        <p:spPr>
          <a:xfrm>
            <a:off x="7505640" y="2416320"/>
            <a:ext cx="68580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C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Cuadro de texto 74"/>
          <p:cNvSpPr/>
          <p:nvPr/>
        </p:nvSpPr>
        <p:spPr>
          <a:xfrm>
            <a:off x="7848720" y="21337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Tioester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Cuadro de texto 109"/>
          <p:cNvSpPr/>
          <p:nvPr/>
        </p:nvSpPr>
        <p:spPr>
          <a:xfrm>
            <a:off x="6172200" y="23623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Cetoacil reduc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Cuadro de texto 111"/>
          <p:cNvSpPr/>
          <p:nvPr/>
        </p:nvSpPr>
        <p:spPr>
          <a:xfrm>
            <a:off x="990720" y="35053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S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Cuadro de texto 113"/>
          <p:cNvSpPr/>
          <p:nvPr/>
        </p:nvSpPr>
        <p:spPr>
          <a:xfrm>
            <a:off x="609480" y="426708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4´Fosfo  panteteí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Cuadro de texto 114"/>
          <p:cNvSpPr/>
          <p:nvPr/>
        </p:nvSpPr>
        <p:spPr>
          <a:xfrm>
            <a:off x="7467480" y="35053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S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Cuadro de texto 116"/>
          <p:cNvSpPr/>
          <p:nvPr/>
        </p:nvSpPr>
        <p:spPr>
          <a:xfrm>
            <a:off x="1066680" y="32767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Cuadro de texto 118"/>
          <p:cNvSpPr/>
          <p:nvPr/>
        </p:nvSpPr>
        <p:spPr>
          <a:xfrm>
            <a:off x="7620120" y="32767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Cuadro de texto 119"/>
          <p:cNvSpPr/>
          <p:nvPr/>
        </p:nvSpPr>
        <p:spPr>
          <a:xfrm>
            <a:off x="990720" y="41148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Cuadro de texto 120"/>
          <p:cNvSpPr/>
          <p:nvPr/>
        </p:nvSpPr>
        <p:spPr>
          <a:xfrm>
            <a:off x="914400" y="39625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S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Cuadro de texto 121"/>
          <p:cNvSpPr/>
          <p:nvPr/>
        </p:nvSpPr>
        <p:spPr>
          <a:xfrm>
            <a:off x="2286000" y="59436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Enoi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reduc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Cuadro de texto 122"/>
          <p:cNvSpPr/>
          <p:nvPr/>
        </p:nvSpPr>
        <p:spPr>
          <a:xfrm>
            <a:off x="1066680" y="59436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Cetoacil reduc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Cuadro de texto 125"/>
          <p:cNvSpPr/>
          <p:nvPr/>
        </p:nvSpPr>
        <p:spPr>
          <a:xfrm>
            <a:off x="7543800" y="487692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Cetoacil sin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Rectángulo 126"/>
          <p:cNvSpPr/>
          <p:nvPr/>
        </p:nvSpPr>
        <p:spPr>
          <a:xfrm>
            <a:off x="6172200" y="525780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cetil Transacilas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Rectángulo 127"/>
          <p:cNvSpPr/>
          <p:nvPr/>
        </p:nvSpPr>
        <p:spPr>
          <a:xfrm>
            <a:off x="4648320" y="556272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Maloni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Transacilas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Cuadro de texto 128"/>
          <p:cNvSpPr/>
          <p:nvPr/>
        </p:nvSpPr>
        <p:spPr>
          <a:xfrm>
            <a:off x="914400" y="50292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C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Cuadro de texto 129"/>
          <p:cNvSpPr/>
          <p:nvPr/>
        </p:nvSpPr>
        <p:spPr>
          <a:xfrm rot="17535000">
            <a:off x="-288720" y="546984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Tioester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Cuadro de texto 130"/>
          <p:cNvSpPr/>
          <p:nvPr/>
        </p:nvSpPr>
        <p:spPr>
          <a:xfrm>
            <a:off x="7696080" y="41911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Rectángulo 131"/>
          <p:cNvSpPr/>
          <p:nvPr/>
        </p:nvSpPr>
        <p:spPr>
          <a:xfrm>
            <a:off x="3124080" y="5791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Hidra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Cuadro de texto 132"/>
          <p:cNvSpPr/>
          <p:nvPr/>
        </p:nvSpPr>
        <p:spPr>
          <a:xfrm>
            <a:off x="990720" y="4724280"/>
            <a:ext cx="3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Cuadro de texto 133"/>
          <p:cNvSpPr/>
          <p:nvPr/>
        </p:nvSpPr>
        <p:spPr>
          <a:xfrm>
            <a:off x="7620120" y="441972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Cisteí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Cuadro de texto 134"/>
          <p:cNvSpPr/>
          <p:nvPr/>
        </p:nvSpPr>
        <p:spPr>
          <a:xfrm>
            <a:off x="7543800" y="39625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S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Cuadro de texto 135"/>
          <p:cNvSpPr/>
          <p:nvPr/>
        </p:nvSpPr>
        <p:spPr>
          <a:xfrm>
            <a:off x="7772400" y="46483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Forma libre 138"/>
          <p:cNvSpPr/>
          <p:nvPr/>
        </p:nvSpPr>
        <p:spPr>
          <a:xfrm>
            <a:off x="4191120" y="5943600"/>
            <a:ext cx="380880" cy="76320"/>
          </a:xfrm>
          <a:custGeom>
            <a:avLst/>
            <a:gdLst/>
            <a:ahLst/>
            <a:rect l="l" t="t" r="r" b="b"/>
            <a:pathLst>
              <a:path w="240" h="48">
                <a:moveTo>
                  <a:pt x="0" y="0"/>
                </a:moveTo>
                <a:cubicBezTo>
                  <a:pt x="4" y="24"/>
                  <a:pt x="8" y="48"/>
                  <a:pt x="48" y="48"/>
                </a:cubicBezTo>
                <a:cubicBezTo>
                  <a:pt x="88" y="48"/>
                  <a:pt x="208" y="8"/>
                  <a:pt x="240" y="0"/>
                </a:cubicBez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Forma libre 139"/>
          <p:cNvSpPr/>
          <p:nvPr/>
        </p:nvSpPr>
        <p:spPr>
          <a:xfrm>
            <a:off x="4114800" y="1587600"/>
            <a:ext cx="304920" cy="164880"/>
          </a:xfrm>
          <a:custGeom>
            <a:avLst/>
            <a:gdLst/>
            <a:ahLst/>
            <a:rect l="l" t="t" r="r" b="b"/>
            <a:pathLst>
              <a:path w="192" h="104">
                <a:moveTo>
                  <a:pt x="0" y="104"/>
                </a:moveTo>
                <a:cubicBezTo>
                  <a:pt x="8" y="60"/>
                  <a:pt x="16" y="16"/>
                  <a:pt x="48" y="8"/>
                </a:cubicBezTo>
                <a:cubicBezTo>
                  <a:pt x="80" y="0"/>
                  <a:pt x="168" y="48"/>
                  <a:pt x="192" y="56"/>
                </a:cubicBez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B106-850E-4962-9CC9-6E2524830C25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09680" y="252000"/>
            <a:ext cx="8447040" cy="93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ff00"/>
                </a:solidFill>
                <a:latin typeface="Arial Narrow"/>
              </a:rPr>
              <a:t>1)Transferencia de acetato.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5" name="Text Box 11"/>
          <p:cNvSpPr/>
          <p:nvPr/>
        </p:nvSpPr>
        <p:spPr>
          <a:xfrm>
            <a:off x="395280" y="1665360"/>
            <a:ext cx="29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Text Box 14"/>
          <p:cNvSpPr/>
          <p:nvPr/>
        </p:nvSpPr>
        <p:spPr>
          <a:xfrm>
            <a:off x="324000" y="2384280"/>
            <a:ext cx="403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Una molécula de acetil-CoA ingresa y la </a:t>
            </a:r>
            <a:r>
              <a:rPr b="0" lang="es-ES" sz="2800" spc="-1" strike="noStrike">
                <a:solidFill>
                  <a:srgbClr val="ff3300"/>
                </a:solidFill>
                <a:latin typeface="Arial Narrow"/>
                <a:ea typeface="Arial"/>
              </a:rPr>
              <a:t>acetil transferasa (AT)</a:t>
            </a:r>
            <a:r>
              <a:rPr b="0" lang="es-E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 transfiere el resto acetilo al sitio activo de la </a:t>
            </a:r>
            <a:r>
              <a:rPr b="0" lang="es-ES" sz="2800" spc="-1" strike="noStrike">
                <a:solidFill>
                  <a:srgbClr val="ffff00"/>
                </a:solidFill>
                <a:latin typeface="Arial Narrow"/>
                <a:ea typeface="Arial"/>
              </a:rPr>
              <a:t>enzima condensante</a:t>
            </a:r>
            <a:r>
              <a:rPr b="0" lang="es-E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s-ES" sz="2800" spc="-1" strike="noStrike">
                <a:solidFill>
                  <a:srgbClr val="ffff00"/>
                </a:solidFill>
                <a:latin typeface="Arial Narrow"/>
                <a:ea typeface="Arial"/>
              </a:rPr>
              <a:t>(K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7" name="Picture 16" descr=""/>
          <p:cNvPicPr/>
          <p:nvPr/>
        </p:nvPicPr>
        <p:blipFill>
          <a:blip r:embed="rId1"/>
          <a:stretch/>
        </p:blipFill>
        <p:spPr>
          <a:xfrm>
            <a:off x="4680000" y="981000"/>
            <a:ext cx="354492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E32E-A933-4579-982D-2E78553C5E4A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58560" y="333360"/>
            <a:ext cx="8483400" cy="7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ff00"/>
                </a:solidFill>
                <a:latin typeface="Arial Narrow"/>
              </a:rPr>
              <a:t>2)Transferencia de malonilo.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0" name="Text Box 6"/>
          <p:cNvSpPr/>
          <p:nvPr/>
        </p:nvSpPr>
        <p:spPr>
          <a:xfrm>
            <a:off x="431640" y="1628640"/>
            <a:ext cx="3240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El malonil-CoA formado ingresa y se une al residuo de </a:t>
            </a:r>
            <a:r>
              <a:rPr b="0" lang="es-ES" sz="2800" spc="-1" strike="noStrike">
                <a:solidFill>
                  <a:srgbClr val="00ff00"/>
                </a:solidFill>
                <a:latin typeface="Arial Narrow"/>
                <a:ea typeface="Arial"/>
              </a:rPr>
              <a:t>Fosfopanteteína</a:t>
            </a:r>
            <a:r>
              <a:rPr b="0" lang="es-E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  de la </a:t>
            </a:r>
            <a:r>
              <a:rPr b="0" lang="es-ES" sz="2800" spc="-1" strike="noStrike">
                <a:solidFill>
                  <a:srgbClr val="ffff00"/>
                </a:solidFill>
                <a:latin typeface="Arial Narrow"/>
                <a:ea typeface="Arial"/>
              </a:rPr>
              <a:t>Proteína Transportadora de Acilos (ACP)</a:t>
            </a:r>
            <a:r>
              <a:rPr b="0" lang="es-E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 por acción de la </a:t>
            </a:r>
            <a:r>
              <a:rPr b="0" lang="es-ES" sz="2800" spc="-1" strike="noStrike">
                <a:solidFill>
                  <a:srgbClr val="ff3300"/>
                </a:solidFill>
                <a:latin typeface="Arial Narrow"/>
                <a:ea typeface="Arial"/>
              </a:rPr>
              <a:t>malonil transferasa (MT)</a:t>
            </a:r>
            <a:r>
              <a:rPr b="0" lang="es-E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1" name="Picture 8" descr=""/>
          <p:cNvPicPr/>
          <p:nvPr/>
        </p:nvPicPr>
        <p:blipFill>
          <a:blip r:embed="rId1"/>
          <a:stretch/>
        </p:blipFill>
        <p:spPr>
          <a:xfrm>
            <a:off x="3738600" y="944640"/>
            <a:ext cx="470196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7011-4BEA-45A5-93B4-9E51D615157F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-360" y="252000"/>
            <a:ext cx="8916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ff00"/>
                </a:solidFill>
                <a:latin typeface="Arial Narrow"/>
              </a:rPr>
              <a:t>3)Condensación de acetilo con malonilo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4" name="Text Box 6"/>
          <p:cNvSpPr/>
          <p:nvPr/>
        </p:nvSpPr>
        <p:spPr>
          <a:xfrm>
            <a:off x="468360" y="2097000"/>
            <a:ext cx="392112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El carboxilo libre del malonilo se separa como 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Se produce la unión de acetilo y malonilo catalizada por la </a:t>
            </a:r>
            <a:r>
              <a:rPr b="0" lang="es-ES" sz="2400" spc="-1" strike="noStrike">
                <a:solidFill>
                  <a:srgbClr val="ff3300"/>
                </a:solidFill>
                <a:latin typeface="Arial Narrow"/>
                <a:ea typeface="Arial"/>
              </a:rPr>
              <a:t>enzima condensante (KS) </a:t>
            </a:r>
            <a:r>
              <a:rPr b="0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para formar ceto-acil AC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Se libera el acetilo de la enzima condens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5" name="Picture 8" descr=""/>
          <p:cNvPicPr/>
          <p:nvPr/>
        </p:nvPicPr>
        <p:blipFill>
          <a:blip r:embed="rId1"/>
          <a:stretch/>
        </p:blipFill>
        <p:spPr>
          <a:xfrm>
            <a:off x="4716360" y="1268280"/>
            <a:ext cx="381168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703F-0DFA-4116-8542-448BBB8A886E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ff00"/>
                </a:solidFill>
                <a:latin typeface="Arial Narrow"/>
              </a:rPr>
              <a:t>4) Primera reducción (reducción del grupo ceto)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8" name="Text Box 6"/>
          <p:cNvSpPr/>
          <p:nvPr/>
        </p:nvSpPr>
        <p:spPr>
          <a:xfrm>
            <a:off x="468360" y="2529000"/>
            <a:ext cx="244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El ceto-acil ACP formado se reduce a hidroxi-acil ACP por acción de la </a:t>
            </a:r>
            <a:r>
              <a:rPr b="1" lang="es-ES" sz="2400" spc="-1" strike="noStrike">
                <a:solidFill>
                  <a:srgbClr val="ff3300"/>
                </a:solidFill>
                <a:latin typeface="Arial Narrow"/>
                <a:ea typeface="Arial"/>
              </a:rPr>
              <a:t>ceto-acil reductasa (KR)</a:t>
            </a:r>
            <a:r>
              <a:rPr b="1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9" name="Picture 8" descr=""/>
          <p:cNvPicPr/>
          <p:nvPr/>
        </p:nvPicPr>
        <p:blipFill>
          <a:blip r:embed="rId1"/>
          <a:stretch/>
        </p:blipFill>
        <p:spPr>
          <a:xfrm>
            <a:off x="2879640" y="1736640"/>
            <a:ext cx="626436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6096240" cy="11430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Arial Narrow"/>
              </a:rPr>
              <a:t>Funciones de los lípido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425080" cy="4465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omponentes de membra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Fuente de reserva energé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Reguladores Biológ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Pigmentos (retinol, carote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ofactores (vitamina 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Detergentes (ácidos biliar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Transportadores (dolico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Hormonas (derivados de la vitamina D, hormonas sexua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Mensajeros celulares (eicosanoides, derivados de fosfatidil inosito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Ancladores de proteí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2D68-1668-46F9-A97A-A2E2D9150384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942920" y="361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ff00"/>
                </a:solidFill>
                <a:latin typeface="Arial Narrow"/>
              </a:rPr>
              <a:t>5)Deshidratación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2" name="Text Box 6"/>
          <p:cNvSpPr/>
          <p:nvPr/>
        </p:nvSpPr>
        <p:spPr>
          <a:xfrm>
            <a:off x="503280" y="2023920"/>
            <a:ext cx="23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Text Box 7"/>
          <p:cNvSpPr/>
          <p:nvPr/>
        </p:nvSpPr>
        <p:spPr>
          <a:xfrm>
            <a:off x="216000" y="2492280"/>
            <a:ext cx="28796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Se pierde una molécula de agua, reacción catalizada por 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1" lang="es-ES" sz="2400" spc="-1" strike="noStrike">
                <a:solidFill>
                  <a:srgbClr val="ff3300"/>
                </a:solidFill>
                <a:latin typeface="Arial Narrow"/>
                <a:ea typeface="Arial"/>
              </a:rPr>
              <a:t>hidroxi acil deshidratasa (H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4" name="Picture 9" descr=""/>
          <p:cNvPicPr/>
          <p:nvPr/>
        </p:nvPicPr>
        <p:blipFill>
          <a:blip r:embed="rId1"/>
          <a:stretch/>
        </p:blipFill>
        <p:spPr>
          <a:xfrm>
            <a:off x="2808360" y="1704960"/>
            <a:ext cx="615636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A34E-FFDA-41D8-83E6-E88B7F77401C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54080" y="-360"/>
            <a:ext cx="8989920" cy="10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ff00"/>
                </a:solidFill>
                <a:latin typeface="Arial Narrow"/>
              </a:rPr>
              <a:t>6)Segunda reducción</a:t>
            </a:r>
            <a:br>
              <a:rPr sz="3600"/>
            </a:br>
            <a:r>
              <a:rPr b="1" lang="es-ES" sz="2400" spc="-1" strike="noStrike">
                <a:solidFill>
                  <a:srgbClr val="00ff00"/>
                </a:solidFill>
                <a:latin typeface="Arial Narrow"/>
              </a:rPr>
              <a:t>(Saturación del enlace C-C)</a:t>
            </a:r>
            <a:endParaRPr b="1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7" name="Text Box 6"/>
          <p:cNvSpPr/>
          <p:nvPr/>
        </p:nvSpPr>
        <p:spPr>
          <a:xfrm>
            <a:off x="576360" y="3033720"/>
            <a:ext cx="38876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compuesto insaturado es hidrogenado por acción de l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enoil reductasa (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8" name="Picture 8" descr=""/>
          <p:cNvPicPr/>
          <p:nvPr/>
        </p:nvPicPr>
        <p:blipFill>
          <a:blip r:embed="rId1"/>
          <a:stretch/>
        </p:blipFill>
        <p:spPr>
          <a:xfrm>
            <a:off x="5076720" y="762120"/>
            <a:ext cx="32482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0AA4-F745-4A02-9940-6638334DEAD1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3095640" y="225000"/>
            <a:ext cx="577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ff00"/>
                </a:solidFill>
                <a:latin typeface="Arial Narrow"/>
              </a:rPr>
              <a:t>Translocación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91" name="Text Box 7"/>
          <p:cNvSpPr/>
          <p:nvPr/>
        </p:nvSpPr>
        <p:spPr>
          <a:xfrm>
            <a:off x="1440" y="189000"/>
            <a:ext cx="3418200" cy="63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 Narrow"/>
                <a:ea typeface="Arial"/>
              </a:rPr>
              <a:t>La cadena en elongación unida al grupo fosfopanteteína de la ACP es translocada al residuo de cisteína de la enzima condensante (K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 Narrow"/>
                <a:ea typeface="Arial"/>
              </a:rPr>
              <a:t>El grupo fosfopanteteína queda libre para la unión a malonilo comenzando un nuevo cicl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 Narrow"/>
                <a:ea typeface="Arial"/>
              </a:rPr>
              <a:t>El ciclo se repite hasta llegar a AG de 16 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ffcc"/>
                </a:solidFill>
                <a:latin typeface="Arial Narrow"/>
                <a:ea typeface="Arial"/>
              </a:rPr>
              <a:t>Los H necesarios para las reducciones provienen de </a:t>
            </a:r>
            <a:r>
              <a:rPr b="1" lang="es-ES" sz="2000" spc="-1" strike="noStrike" u="sng">
                <a:solidFill>
                  <a:srgbClr val="99ffcc"/>
                </a:solidFill>
                <a:uFillTx/>
                <a:latin typeface="Arial Narrow"/>
                <a:ea typeface="Arial"/>
              </a:rPr>
              <a:t>NADPH que se obtiene en la vía de las pentosas y  en menor cantidad por la enzima málica lanzadera de citra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ffcc"/>
                </a:solidFill>
                <a:latin typeface="Arial Narrow"/>
                <a:ea typeface="Arial"/>
              </a:rPr>
              <a:t>(transporte de acetilos</a:t>
            </a:r>
            <a:r>
              <a:rPr b="1" lang="es-ES" sz="2000" spc="-1" strike="noStrike">
                <a:solidFill>
                  <a:srgbClr val="ffffff"/>
                </a:solidFill>
                <a:latin typeface="Arial Narrow"/>
                <a:ea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2" name="Picture 9" descr=""/>
          <p:cNvPicPr/>
          <p:nvPr/>
        </p:nvPicPr>
        <p:blipFill>
          <a:blip r:embed="rId1"/>
          <a:stretch/>
        </p:blipFill>
        <p:spPr>
          <a:xfrm>
            <a:off x="3348000" y="1665360"/>
            <a:ext cx="5575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2C1B-BE60-4CA5-A6F1-FBBCD24C5D64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90080" y="361440"/>
            <a:ext cx="8185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00ff00"/>
                </a:solidFill>
                <a:uFillTx/>
                <a:latin typeface="Arial Narrow"/>
              </a:rPr>
              <a:t>RESUMEN</a:t>
            </a:r>
            <a:r>
              <a:rPr b="1" lang="es-ES" sz="4000" spc="-1" strike="noStrike">
                <a:solidFill>
                  <a:srgbClr val="00ff00"/>
                </a:solidFill>
                <a:latin typeface="Arial Narrow"/>
              </a:rPr>
              <a:t>: </a:t>
            </a:r>
            <a:br>
              <a:rPr sz="4000"/>
            </a:br>
            <a:r>
              <a:rPr b="1" lang="es-ES" sz="4000" spc="-1" strike="noStrike">
                <a:solidFill>
                  <a:srgbClr val="00ff00"/>
                </a:solidFill>
                <a:latin typeface="Arial Narrow"/>
              </a:rPr>
              <a:t>Pasos de la biosíntesis de Ac. Grasos.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995" name="Picture 6" descr=""/>
          <p:cNvPicPr/>
          <p:nvPr/>
        </p:nvPicPr>
        <p:blipFill>
          <a:blip r:embed="rId1"/>
          <a:stretch/>
        </p:blipFill>
        <p:spPr>
          <a:xfrm>
            <a:off x="539640" y="1765440"/>
            <a:ext cx="8375760" cy="4611600"/>
          </a:xfrm>
          <a:prstGeom prst="rect">
            <a:avLst/>
          </a:prstGeom>
          <a:ln w="0">
            <a:noFill/>
          </a:ln>
        </p:spPr>
      </p:pic>
      <p:sp>
        <p:nvSpPr>
          <p:cNvPr id="996" name="1 CuadroTexto"/>
          <p:cNvSpPr/>
          <p:nvPr/>
        </p:nvSpPr>
        <p:spPr>
          <a:xfrm>
            <a:off x="539640" y="5408640"/>
            <a:ext cx="54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7 ciclos de condensación y reducción producen el palmitato saturado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  <a:ea typeface="Arial"/>
              </a:rPr>
              <a:t>,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Actúa la </a:t>
            </a:r>
            <a:r>
              <a:rPr b="1" lang="es-A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ioesterasa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y libera el 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Elipse 19"/>
          <p:cNvSpPr/>
          <p:nvPr/>
        </p:nvSpPr>
        <p:spPr>
          <a:xfrm>
            <a:off x="3124080" y="2743200"/>
            <a:ext cx="1067040" cy="12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000"/>
                </a:solidFill>
                <a:latin typeface="Arial Narrow"/>
              </a:rPr>
              <a:t>Balance de la Biosíntesis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99" name="Cuadro de texto 15"/>
          <p:cNvSpPr/>
          <p:nvPr/>
        </p:nvSpPr>
        <p:spPr>
          <a:xfrm>
            <a:off x="762120" y="32004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8 Acetil-CoA  +  7 ATP  +  14 NADPH   +  14  H</a:t>
            </a:r>
            <a:r>
              <a:rPr b="1" lang="es-E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Cuadro de texto 16"/>
          <p:cNvSpPr/>
          <p:nvPr/>
        </p:nvSpPr>
        <p:spPr>
          <a:xfrm>
            <a:off x="152280" y="4495680"/>
            <a:ext cx="883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almitato +8 CoA-SH +  7 ADP + 7 Pi +  14 NADP</a:t>
            </a:r>
            <a:r>
              <a:rPr b="1" lang="es-E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  +  6  H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Línea 20"/>
          <p:cNvSpPr/>
          <p:nvPr/>
        </p:nvSpPr>
        <p:spPr>
          <a:xfrm flipV="1">
            <a:off x="4343400" y="2438280"/>
            <a:ext cx="1371600" cy="457200"/>
          </a:xfrm>
          <a:prstGeom prst="line">
            <a:avLst/>
          </a:prstGeom>
          <a:ln w="22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Elipse 21"/>
          <p:cNvSpPr/>
          <p:nvPr/>
        </p:nvSpPr>
        <p:spPr>
          <a:xfrm>
            <a:off x="5638680" y="1219320"/>
            <a:ext cx="3110040" cy="1752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Biosíntesis de malonil-C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Línea 22"/>
          <p:cNvSpPr/>
          <p:nvPr/>
        </p:nvSpPr>
        <p:spPr>
          <a:xfrm>
            <a:off x="4572000" y="378936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1 CuadroTexto"/>
          <p:cNvSpPr/>
          <p:nvPr/>
        </p:nvSpPr>
        <p:spPr>
          <a:xfrm>
            <a:off x="6063840" y="1531800"/>
            <a:ext cx="22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  <a:ea typeface="Arial"/>
              </a:rPr>
              <a:t>Lanzadera de citr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Cuadro de texto 4"/>
          <p:cNvSpPr/>
          <p:nvPr/>
        </p:nvSpPr>
        <p:spPr>
          <a:xfrm>
            <a:off x="2556000" y="2060640"/>
            <a:ext cx="37447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losté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oval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Transcripción génic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Rectángulo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000"/>
                </a:solidFill>
                <a:latin typeface="Arial"/>
                <a:ea typeface="Arial"/>
              </a:rPr>
              <a:t>REGULACION DE LA BIOSINTESIS DE ACIDOS GRAS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Cuadro de texto 6"/>
          <p:cNvSpPr/>
          <p:nvPr/>
        </p:nvSpPr>
        <p:spPr>
          <a:xfrm>
            <a:off x="324000" y="3357720"/>
            <a:ext cx="2232000" cy="1169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ff"/>
                </a:solidFill>
                <a:latin typeface="Arial"/>
                <a:ea typeface="Arial"/>
              </a:rPr>
              <a:t>Acetil-Co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ff"/>
                </a:solidFill>
                <a:latin typeface="Arial"/>
                <a:ea typeface="Arial"/>
              </a:rPr>
              <a:t>carboxila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Autoforma 7"/>
          <p:cNvSpPr/>
          <p:nvPr/>
        </p:nvSpPr>
        <p:spPr>
          <a:xfrm>
            <a:off x="4429080" y="1700280"/>
            <a:ext cx="358920" cy="1657440"/>
          </a:xfrm>
          <a:custGeom>
            <a:avLst/>
            <a:gdLst>
              <a:gd name="textAreaLeft" fmla="*/ 229320 w 358920"/>
              <a:gd name="textAreaRight" fmla="*/ 359280 w 358920"/>
              <a:gd name="textAreaTop" fmla="*/ 43200 h 1657440"/>
              <a:gd name="textAreaBottom" fmla="*/ 1614240 h 16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Autoforma 8"/>
          <p:cNvSpPr/>
          <p:nvPr/>
        </p:nvSpPr>
        <p:spPr>
          <a:xfrm>
            <a:off x="4284720" y="1484280"/>
            <a:ext cx="431640" cy="1727280"/>
          </a:xfrm>
          <a:custGeom>
            <a:avLst/>
            <a:gdLst>
              <a:gd name="textAreaLeft" fmla="*/ 275760 w 431640"/>
              <a:gd name="textAreaRight" fmla="*/ 432000 w 43164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Elipse 9"/>
          <p:cNvSpPr/>
          <p:nvPr/>
        </p:nvSpPr>
        <p:spPr>
          <a:xfrm>
            <a:off x="4788000" y="1700280"/>
            <a:ext cx="50472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Elipse 10"/>
          <p:cNvSpPr/>
          <p:nvPr/>
        </p:nvSpPr>
        <p:spPr>
          <a:xfrm>
            <a:off x="4859280" y="2637000"/>
            <a:ext cx="504720" cy="43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Autoforma 11"/>
          <p:cNvSpPr/>
          <p:nvPr/>
        </p:nvSpPr>
        <p:spPr>
          <a:xfrm>
            <a:off x="4356000" y="3573360"/>
            <a:ext cx="432000" cy="1727280"/>
          </a:xfrm>
          <a:custGeom>
            <a:avLst/>
            <a:gdLst>
              <a:gd name="textAreaLeft" fmla="*/ 276120 w 432000"/>
              <a:gd name="textAreaRight" fmla="*/ 432360 w 43200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Elipse 12"/>
          <p:cNvSpPr/>
          <p:nvPr/>
        </p:nvSpPr>
        <p:spPr>
          <a:xfrm>
            <a:off x="4859280" y="3789360"/>
            <a:ext cx="50472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Elipse 13"/>
          <p:cNvSpPr/>
          <p:nvPr/>
        </p:nvSpPr>
        <p:spPr>
          <a:xfrm>
            <a:off x="4930920" y="4726080"/>
            <a:ext cx="50472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Cuadro de texto 14"/>
          <p:cNvSpPr/>
          <p:nvPr/>
        </p:nvSpPr>
        <p:spPr>
          <a:xfrm>
            <a:off x="5435640" y="177336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Citra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Cuadro de texto 15"/>
          <p:cNvSpPr/>
          <p:nvPr/>
        </p:nvSpPr>
        <p:spPr>
          <a:xfrm>
            <a:off x="5580000" y="2708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almitil-Co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Cuadro de texto 16"/>
          <p:cNvSpPr/>
          <p:nvPr/>
        </p:nvSpPr>
        <p:spPr>
          <a:xfrm>
            <a:off x="5580000" y="386064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Insul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Cuadro de texto 17"/>
          <p:cNvSpPr/>
          <p:nvPr/>
        </p:nvSpPr>
        <p:spPr>
          <a:xfrm>
            <a:off x="5580000" y="486900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Glucagón, Adrenal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Cuadro de texto 18"/>
          <p:cNvSpPr/>
          <p:nvPr/>
        </p:nvSpPr>
        <p:spPr>
          <a:xfrm>
            <a:off x="6732720" y="5877000"/>
            <a:ext cx="208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A.G. poliinsatur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Elipse 19"/>
          <p:cNvSpPr/>
          <p:nvPr/>
        </p:nvSpPr>
        <p:spPr>
          <a:xfrm>
            <a:off x="6083280" y="5948280"/>
            <a:ext cx="50472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34F4-23CB-41FA-9F1B-E85A8E731BB2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2 Rectángulo"/>
          <p:cNvSpPr/>
          <p:nvPr/>
        </p:nvSpPr>
        <p:spPr>
          <a:xfrm>
            <a:off x="179280" y="549360"/>
            <a:ext cx="87138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c000"/>
                </a:solidFill>
                <a:latin typeface="Arial Rounded MT Bold"/>
              </a:rPr>
              <a:t>La regulación hormonal produce un </a:t>
            </a:r>
            <a:r>
              <a:rPr b="0" lang="es-AR" sz="2000" spc="-1" strike="noStrike" u="sng">
                <a:solidFill>
                  <a:srgbClr val="ffc000"/>
                </a:solidFill>
                <a:uFillTx/>
                <a:latin typeface="Arial Rounded MT Bold"/>
              </a:rPr>
              <a:t>efecto inmediato</a:t>
            </a:r>
            <a:r>
              <a:rPr b="0" lang="es-AR" sz="2000" spc="-1" strike="noStrike">
                <a:solidFill>
                  <a:srgbClr val="ffc000"/>
                </a:solidFill>
                <a:latin typeface="Arial Rounded MT Bold"/>
              </a:rPr>
              <a:t>, de corto tiempo, a través de un mecanismo de fosforilación ó desfosforilación de la enzim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c000"/>
                </a:solidFill>
                <a:latin typeface="Arial Rounded MT Bold"/>
              </a:rPr>
              <a:t>La dieta actúa a nivel de la síntesis de la proteína enzimática por lo que el </a:t>
            </a:r>
            <a:r>
              <a:rPr b="0" lang="es-AR" sz="2000" spc="-1" strike="noStrike" u="sng">
                <a:solidFill>
                  <a:srgbClr val="ffc000"/>
                </a:solidFill>
                <a:uFillTx/>
                <a:latin typeface="Arial Rounded MT Bold"/>
              </a:rPr>
              <a:t>efecto es tardío ó mediato</a:t>
            </a:r>
            <a:r>
              <a:rPr b="0" lang="es-AR" sz="2000" spc="-1" strike="noStrike">
                <a:solidFill>
                  <a:srgbClr val="ffc000"/>
                </a:solidFill>
                <a:latin typeface="Arial Rounded MT Bold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c000"/>
                </a:solidFill>
                <a:latin typeface="Arial Rounded MT Bold"/>
              </a:rPr>
              <a:t>Así por ejemplo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1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1a1a"/>
                </a:solidFill>
                <a:latin typeface="Arial Rounded MT Bold"/>
              </a:rPr>
              <a:t>a)  una dieta rica en hidratos de carbono y/o proteínas, supera las necesidades energéticas de la célula, en consecuencia el acetil CoA que se produce en la degradación de dichos compuestos se utiliza para la síntesis de AG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c000"/>
                </a:solidFill>
                <a:latin typeface="Arial Rounded MT Bold"/>
              </a:rPr>
              <a:t>b) una dieta pobre en grasas no aporta la cantidad de lípidos suficientes para las distintas funciones celulares, en consecuencia se favorece la síntesis de ácidos gras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ángulo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000"/>
                </a:solidFill>
                <a:latin typeface="Arial"/>
                <a:ea typeface="Arial"/>
              </a:rPr>
              <a:t>ESQUEMA DE LA REGULACION DE LA BIOSINT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Cuadro de texto 5"/>
          <p:cNvSpPr/>
          <p:nvPr/>
        </p:nvSpPr>
        <p:spPr>
          <a:xfrm>
            <a:off x="3421080" y="1700280"/>
            <a:ext cx="107964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itra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Cuadro de texto 6"/>
          <p:cNvSpPr/>
          <p:nvPr/>
        </p:nvSpPr>
        <p:spPr>
          <a:xfrm>
            <a:off x="3276720" y="3166920"/>
            <a:ext cx="172872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cetil-Co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Cuadro de texto 7"/>
          <p:cNvSpPr/>
          <p:nvPr/>
        </p:nvSpPr>
        <p:spPr>
          <a:xfrm>
            <a:off x="3295800" y="4432320"/>
            <a:ext cx="172872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Malonil-Co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Cuadro de texto 8"/>
          <p:cNvSpPr/>
          <p:nvPr/>
        </p:nvSpPr>
        <p:spPr>
          <a:xfrm>
            <a:off x="3276720" y="5902200"/>
            <a:ext cx="201600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Palmitoil-Co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Línea 9"/>
          <p:cNvSpPr/>
          <p:nvPr/>
        </p:nvSpPr>
        <p:spPr>
          <a:xfrm>
            <a:off x="3924360" y="2276640"/>
            <a:ext cx="0" cy="720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Línea 10"/>
          <p:cNvSpPr/>
          <p:nvPr/>
        </p:nvSpPr>
        <p:spPr>
          <a:xfrm>
            <a:off x="3995640" y="3645000"/>
            <a:ext cx="0" cy="720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Línea 11"/>
          <p:cNvSpPr/>
          <p:nvPr/>
        </p:nvSpPr>
        <p:spPr>
          <a:xfrm>
            <a:off x="4067280" y="5084640"/>
            <a:ext cx="0" cy="179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Cuadro de texto 12"/>
          <p:cNvSpPr/>
          <p:nvPr/>
        </p:nvSpPr>
        <p:spPr>
          <a:xfrm>
            <a:off x="4067280" y="2349360"/>
            <a:ext cx="16570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ff"/>
                </a:solidFill>
                <a:latin typeface="Arial"/>
                <a:ea typeface="Arial"/>
              </a:rPr>
              <a:t>Citrato liasa</a:t>
            </a:r>
            <a:r>
              <a:rPr b="0" lang="es-ES" sz="18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Cuadro de texto 13"/>
          <p:cNvSpPr/>
          <p:nvPr/>
        </p:nvSpPr>
        <p:spPr>
          <a:xfrm>
            <a:off x="4140360" y="3789360"/>
            <a:ext cx="287964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ff"/>
                </a:solidFill>
                <a:latin typeface="Arial"/>
                <a:ea typeface="Arial"/>
              </a:rPr>
              <a:t>Acetil-CoA carboxilasa</a:t>
            </a:r>
            <a:r>
              <a:rPr b="0" lang="es-ES" sz="18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Línea 14"/>
          <p:cNvSpPr/>
          <p:nvPr/>
        </p:nvSpPr>
        <p:spPr>
          <a:xfrm>
            <a:off x="4067280" y="5300640"/>
            <a:ext cx="0" cy="1792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Línea 15"/>
          <p:cNvSpPr/>
          <p:nvPr/>
        </p:nvSpPr>
        <p:spPr>
          <a:xfrm>
            <a:off x="4067280" y="5554800"/>
            <a:ext cx="0" cy="1792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Línea 16"/>
          <p:cNvSpPr/>
          <p:nvPr/>
        </p:nvSpPr>
        <p:spPr>
          <a:xfrm>
            <a:off x="6443640" y="4653000"/>
            <a:ext cx="0" cy="144000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Línea 17"/>
          <p:cNvSpPr/>
          <p:nvPr/>
        </p:nvSpPr>
        <p:spPr>
          <a:xfrm>
            <a:off x="5508720" y="6093000"/>
            <a:ext cx="9349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Elipse 18"/>
          <p:cNvSpPr/>
          <p:nvPr/>
        </p:nvSpPr>
        <p:spPr>
          <a:xfrm>
            <a:off x="6156360" y="4149720"/>
            <a:ext cx="50472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Cuadro de texto 19"/>
          <p:cNvSpPr/>
          <p:nvPr/>
        </p:nvSpPr>
        <p:spPr>
          <a:xfrm>
            <a:off x="7415280" y="393372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Glucagón, Adrenal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Línea 20"/>
          <p:cNvSpPr/>
          <p:nvPr/>
        </p:nvSpPr>
        <p:spPr>
          <a:xfrm flipH="1">
            <a:off x="6804000" y="4365720"/>
            <a:ext cx="432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Línea 21"/>
          <p:cNvSpPr/>
          <p:nvPr/>
        </p:nvSpPr>
        <p:spPr>
          <a:xfrm>
            <a:off x="5292720" y="1844640"/>
            <a:ext cx="0" cy="43200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Línea 22"/>
          <p:cNvSpPr/>
          <p:nvPr/>
        </p:nvSpPr>
        <p:spPr>
          <a:xfrm>
            <a:off x="4643280" y="1844640"/>
            <a:ext cx="649440" cy="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Elipse 23"/>
          <p:cNvSpPr/>
          <p:nvPr/>
        </p:nvSpPr>
        <p:spPr>
          <a:xfrm>
            <a:off x="5435640" y="1700280"/>
            <a:ext cx="50472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Línea 24"/>
          <p:cNvSpPr/>
          <p:nvPr/>
        </p:nvSpPr>
        <p:spPr>
          <a:xfrm>
            <a:off x="2700360" y="3933720"/>
            <a:ext cx="1224000" cy="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Línea 25"/>
          <p:cNvSpPr/>
          <p:nvPr/>
        </p:nvSpPr>
        <p:spPr>
          <a:xfrm flipH="1">
            <a:off x="2700360" y="1844640"/>
            <a:ext cx="503280" cy="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Línea 26"/>
          <p:cNvSpPr/>
          <p:nvPr/>
        </p:nvSpPr>
        <p:spPr>
          <a:xfrm>
            <a:off x="2700360" y="1844640"/>
            <a:ext cx="0" cy="208908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Elipse 27"/>
          <p:cNvSpPr/>
          <p:nvPr/>
        </p:nvSpPr>
        <p:spPr>
          <a:xfrm>
            <a:off x="2124000" y="2708280"/>
            <a:ext cx="50508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Cuadro de texto 28"/>
          <p:cNvSpPr/>
          <p:nvPr/>
        </p:nvSpPr>
        <p:spPr>
          <a:xfrm>
            <a:off x="6300720" y="1700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Insul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Línea 29"/>
          <p:cNvSpPr/>
          <p:nvPr/>
        </p:nvSpPr>
        <p:spPr>
          <a:xfrm flipH="1">
            <a:off x="2123640" y="4653000"/>
            <a:ext cx="10796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Rectángulo 30"/>
          <p:cNvSpPr/>
          <p:nvPr/>
        </p:nvSpPr>
        <p:spPr>
          <a:xfrm>
            <a:off x="0" y="4730760"/>
            <a:ext cx="2109960" cy="93672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Carnitin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Acil transferasa 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(Acil. CoA al interior de l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Mitocondria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Elipse 31"/>
          <p:cNvSpPr/>
          <p:nvPr/>
        </p:nvSpPr>
        <p:spPr>
          <a:xfrm>
            <a:off x="2484360" y="4869000"/>
            <a:ext cx="505080" cy="43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Línea 32"/>
          <p:cNvSpPr/>
          <p:nvPr/>
        </p:nvSpPr>
        <p:spPr>
          <a:xfrm>
            <a:off x="5940360" y="220500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4E02-5EC6-49A6-9314-E05DB9DC6EB8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3" name="Picture 2" descr=""/>
          <p:cNvPicPr/>
          <p:nvPr/>
        </p:nvPicPr>
        <p:blipFill>
          <a:blip r:embed="rId1"/>
          <a:stretch/>
        </p:blipFill>
        <p:spPr>
          <a:xfrm>
            <a:off x="347760" y="260280"/>
            <a:ext cx="85453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0B22-CE11-417E-A4F7-4529E8762B18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5" name="Picture 2" descr=""/>
          <p:cNvPicPr/>
          <p:nvPr/>
        </p:nvPicPr>
        <p:blipFill>
          <a:blip r:embed="rId1"/>
          <a:stretch/>
        </p:blipFill>
        <p:spPr>
          <a:xfrm>
            <a:off x="468360" y="351000"/>
            <a:ext cx="8136000" cy="6102360"/>
          </a:xfrm>
          <a:prstGeom prst="rect">
            <a:avLst/>
          </a:prstGeom>
          <a:ln w="0">
            <a:noFill/>
          </a:ln>
        </p:spPr>
      </p:pic>
      <p:sp>
        <p:nvSpPr>
          <p:cNvPr id="1056" name="3 Conector recto"/>
          <p:cNvSpPr/>
          <p:nvPr/>
        </p:nvSpPr>
        <p:spPr>
          <a:xfrm>
            <a:off x="3276720" y="2205000"/>
            <a:ext cx="7905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4 CuadroTexto"/>
          <p:cNvSpPr/>
          <p:nvPr/>
        </p:nvSpPr>
        <p:spPr>
          <a:xfrm>
            <a:off x="6165720" y="4230720"/>
            <a:ext cx="143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600" spc="-1" strike="noStrike">
                <a:solidFill>
                  <a:srgbClr val="ff3300"/>
                </a:solidFill>
                <a:latin typeface="Arial"/>
                <a:ea typeface="Arial"/>
              </a:rPr>
              <a:t>deshidra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993080" cy="115272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 Narrow"/>
              </a:rPr>
              <a:t>METABOLISMO DE LIPIDOS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280360" cy="446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Biosíntesis de ácidos grasos saturad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Complejo multienzimático: Acido graso sintas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Regulación hormon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Requerimientos energétic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12F9-225A-43D9-82DF-497A7E72F02D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9" name="Picture 2" descr=""/>
          <p:cNvPicPr/>
          <p:nvPr/>
        </p:nvPicPr>
        <p:blipFill>
          <a:blip r:embed="rId1"/>
          <a:stretch/>
        </p:blipFill>
        <p:spPr>
          <a:xfrm>
            <a:off x="684360" y="512640"/>
            <a:ext cx="7848360" cy="5886720"/>
          </a:xfrm>
          <a:prstGeom prst="rect">
            <a:avLst/>
          </a:prstGeom>
          <a:ln w="0">
            <a:noFill/>
          </a:ln>
        </p:spPr>
      </p:pic>
      <p:sp>
        <p:nvSpPr>
          <p:cNvPr id="1060" name="2 CuadroTexto"/>
          <p:cNvSpPr/>
          <p:nvPr/>
        </p:nvSpPr>
        <p:spPr>
          <a:xfrm>
            <a:off x="7815960" y="37893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R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DCD7-F564-42B9-910D-41C3D08ED4AD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2" name="Picture 3" descr=""/>
          <p:cNvPicPr/>
          <p:nvPr/>
        </p:nvPicPr>
        <p:blipFill>
          <a:blip r:embed="rId1"/>
          <a:stretch/>
        </p:blipFill>
        <p:spPr>
          <a:xfrm>
            <a:off x="1403280" y="84240"/>
            <a:ext cx="6408720" cy="66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148E-BF72-4203-B316-D0E19AD5DC0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2 Rectángulo"/>
          <p:cNvSpPr/>
          <p:nvPr/>
        </p:nvSpPr>
        <p:spPr>
          <a:xfrm>
            <a:off x="108000" y="122400"/>
            <a:ext cx="8712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s vegetales tienen las enzimas necesarias para producir insaturaciones desde la posición 9 del ácido graso hacia el carbono </a:t>
            </a:r>
            <a:r>
              <a:rPr b="1" lang="es-AR" sz="24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metilo terminal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r ejemplo, a partir del ácido oleico pueden sintetizar los ácidos: linoleico (18:2,  </a:t>
            </a:r>
            <a:r>
              <a:rPr b="1" lang="es-AR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9.12) y linolénico (18:3, </a:t>
            </a:r>
            <a:r>
              <a:rPr b="1" lang="es-AR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9,12,15)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s mamíferos no pueden sintetizarlos y por ello se consideran a los mismos,  ácidos grasos esenciales debiendo ser provistos por la diet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l ácido araquidónico (20:4 </a:t>
            </a:r>
            <a:r>
              <a:rPr b="1" lang="es-AR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, 8, 11, 14) es parcialmente indispensable ya que el organismo puede sintetizarlo si dispone de ácido linoleic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 animales la nueva doble unión se introduce entre la ya existente, en la porción de cadena proximal  al grupo carboxi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0878-7A3D-4439-9765-EB2DE8D53807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2 CuadroTexto"/>
          <p:cNvSpPr/>
          <p:nvPr/>
        </p:nvSpPr>
        <p:spPr>
          <a:xfrm>
            <a:off x="179280" y="0"/>
            <a:ext cx="8964720" cy="68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NCIONES BIOLOGICAS DE  AG POLIINSATUR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N AG ESCENC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EGRAN LÍPIDOS ESTRUCTURALES EN LAS CÉLULAS </a:t>
            </a:r>
            <a:r>
              <a:rPr b="1" lang="es-AR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MEMBRA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N PRECURSORES DE PROSTAGLANDINAS, TROMBOXANOS Y LEUCOTRIE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RTICIPAN EN LA CONSTITUCIÓN DE LOS ÉSTERES DE COLESTEROL EN PLASMA SANGUÍNE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 GENERAN ISÓMEROS TRANS EN EL PROCESO DE HIDROGENACIÓN DE ACEITES NATURALES </a:t>
            </a:r>
            <a:r>
              <a:rPr b="1" lang="es-AR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L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3 Flecha arriba"/>
          <p:cNvSpPr/>
          <p:nvPr/>
        </p:nvSpPr>
        <p:spPr>
          <a:xfrm>
            <a:off x="7454880" y="5805360"/>
            <a:ext cx="285840" cy="574920"/>
          </a:xfrm>
          <a:prstGeom prst="upArrow">
            <a:avLst>
              <a:gd name="adj1" fmla="val 50000"/>
              <a:gd name="adj2" fmla="val 49818"/>
            </a:avLst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DE95-CB11-48E8-B378-008BADDF1642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/>
          </p:nvPr>
        </p:nvSpPr>
        <p:spPr>
          <a:xfrm>
            <a:off x="0" y="174600"/>
            <a:ext cx="9144000" cy="667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uando la ingesta supera las necesidades energéticas, el exceso se almacena como reserva en forma de gras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Los restos de acetil-CoA provenientes de la </a:t>
            </a:r>
            <a:r>
              <a:rPr b="1" lang="el-GR" sz="2400" spc="-1" strike="noStrike">
                <a:solidFill>
                  <a:srgbClr val="ffff00"/>
                </a:solidFill>
                <a:latin typeface="Arial"/>
                <a:ea typeface="Arial"/>
              </a:rPr>
              <a:t>β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-oxidación y de la degradación de glucosa o de las cadenas carbonadas de algunos aac, pueden utilizarse para sintetizar nuevos A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stos se incorporan al glicerol para ser almacenados como grasa de depósi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La síntesis de AG de hasta 16 C ocurre en el citoplasma y se conoce como SINTESIS DE NO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La elongación de AG se lleva a cabo en las membranas del REL y la de los AG preexistentes se realiza en las mitocondri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 Narrow"/>
              </a:rPr>
              <a:t>Características generales de la Biosíntesis de ácidos grasos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07" name="Cuadro de texto 3"/>
          <p:cNvSpPr/>
          <p:nvPr/>
        </p:nvSpPr>
        <p:spPr>
          <a:xfrm>
            <a:off x="407880" y="26719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La biosíntesis de AG (lipogénesis)  tiene lugar en el CITOSOL, en plantas en los CLOROPLA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Cuadro de texto 4"/>
          <p:cNvSpPr/>
          <p:nvPr/>
        </p:nvSpPr>
        <p:spPr>
          <a:xfrm>
            <a:off x="468360" y="368316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s un proceso endergónico: Utiliza  AT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Cuadro de texto 5"/>
          <p:cNvSpPr/>
          <p:nvPr/>
        </p:nvSpPr>
        <p:spPr>
          <a:xfrm>
            <a:off x="4191120" y="32767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Cuadro de texto 6"/>
          <p:cNvSpPr/>
          <p:nvPr/>
        </p:nvSpPr>
        <p:spPr>
          <a:xfrm>
            <a:off x="496800" y="454644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Consume equivalentes de reducción : NAD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Cuadro de texto 7"/>
          <p:cNvSpPr/>
          <p:nvPr/>
        </p:nvSpPr>
        <p:spPr>
          <a:xfrm>
            <a:off x="407880" y="55306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s activa cuando el aporte energético es superior a las necesidades de la célul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Cuadro de texto 8"/>
          <p:cNvSpPr/>
          <p:nvPr/>
        </p:nvSpPr>
        <p:spPr>
          <a:xfrm>
            <a:off x="395280" y="1773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s muy activa en hígado, tejido adiposo, glándula mam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24720" cy="633564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Los 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AG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se sintetizan en citosol a partir de acetil-CoA, por adición sucesiva de estos fragmentos de 2 carbonos al extremo carboxilo de la cadena en crecimie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l Acetil-CoA que se produce en mitocondria debe estar disponible en citos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La membrana mitocondrial interna es impermeable a acetil-Co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l citrato es el compuesto que permite disponer de Acetil-CoA en citoso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7 Rectángulo"/>
          <p:cNvSpPr/>
          <p:nvPr/>
        </p:nvSpPr>
        <p:spPr>
          <a:xfrm>
            <a:off x="6093000" y="3179880"/>
            <a:ext cx="792000" cy="285480"/>
          </a:xfrm>
          <a:prstGeom prst="rect">
            <a:avLst/>
          </a:prstGeom>
          <a:solidFill>
            <a:srgbClr val="777777"/>
          </a:solidFill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6 Rectángulo"/>
          <p:cNvSpPr/>
          <p:nvPr/>
        </p:nvSpPr>
        <p:spPr>
          <a:xfrm>
            <a:off x="6156360" y="3073320"/>
            <a:ext cx="792000" cy="284400"/>
          </a:xfrm>
          <a:prstGeom prst="rect">
            <a:avLst/>
          </a:prstGeom>
          <a:solidFill>
            <a:srgbClr val="777777"/>
          </a:solidFill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6" name="Imagen 4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7273800" cy="5883120"/>
          </a:xfrm>
          <a:prstGeom prst="rect">
            <a:avLst/>
          </a:prstGeom>
          <a:ln w="9360">
            <a:solidFill>
              <a:srgbClr val="ff1a1a"/>
            </a:solidFill>
            <a:miter/>
          </a:ln>
        </p:spPr>
      </p:pic>
      <p:sp>
        <p:nvSpPr>
          <p:cNvPr id="817" name="Cuadro de texto 6"/>
          <p:cNvSpPr/>
          <p:nvPr/>
        </p:nvSpPr>
        <p:spPr>
          <a:xfrm>
            <a:off x="3348000" y="2492280"/>
            <a:ext cx="90000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Citrato sin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Cuadro de texto 7"/>
          <p:cNvSpPr/>
          <p:nvPr/>
        </p:nvSpPr>
        <p:spPr>
          <a:xfrm>
            <a:off x="5508720" y="2492280"/>
            <a:ext cx="86364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Citrato li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1 Estrella de 5 puntas"/>
          <p:cNvSpPr/>
          <p:nvPr/>
        </p:nvSpPr>
        <p:spPr>
          <a:xfrm>
            <a:off x="5796000" y="4491000"/>
            <a:ext cx="863640" cy="647640"/>
          </a:xfrm>
          <a:custGeom>
            <a:avLst/>
            <a:gdLst/>
            <a:ahLst/>
            <a:rect l="l" t="t" r="r" b="b"/>
            <a:pathLst>
              <a:path w="684076" h="648072">
                <a:moveTo>
                  <a:pt x="1" y="247541"/>
                </a:moveTo>
                <a:lnTo>
                  <a:pt x="252730" y="235799"/>
                </a:lnTo>
                <a:lnTo>
                  <a:pt x="342038" y="0"/>
                </a:lnTo>
                <a:lnTo>
                  <a:pt x="431346" y="235799"/>
                </a:lnTo>
                <a:lnTo>
                  <a:pt x="684075" y="247541"/>
                </a:lnTo>
                <a:lnTo>
                  <a:pt x="486542" y="405015"/>
                </a:lnTo>
                <a:lnTo>
                  <a:pt x="553429" y="648070"/>
                </a:lnTo>
                <a:lnTo>
                  <a:pt x="342038" y="509596"/>
                </a:lnTo>
                <a:lnTo>
                  <a:pt x="130647" y="648070"/>
                </a:lnTo>
                <a:lnTo>
                  <a:pt x="197534" y="405015"/>
                </a:lnTo>
                <a:lnTo>
                  <a:pt x="1" y="247541"/>
                </a:lnTo>
                <a:close/>
              </a:path>
            </a:pathLst>
          </a:custGeom>
          <a:noFill/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1 Rectángulo"/>
          <p:cNvSpPr/>
          <p:nvPr/>
        </p:nvSpPr>
        <p:spPr>
          <a:xfrm>
            <a:off x="324000" y="11592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  <a:ea typeface="Arial"/>
              </a:rPr>
              <a:t>SALIDA DE ACETILOS DE LA MITOCONDRIA AL CITOS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  <a:ea typeface="Arial"/>
              </a:rPr>
              <a:t>LANZADERA DE CITRA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1" name="3 Conector recto de flecha"/>
          <p:cNvCxnSpPr/>
          <p:nvPr/>
        </p:nvCxnSpPr>
        <p:spPr>
          <a:xfrm flipH="1" flipV="1">
            <a:off x="6318000" y="5589000"/>
            <a:ext cx="342000" cy="43236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arrow" w="med"/>
          </a:ln>
        </p:spPr>
      </p:cxnSp>
      <p:cxnSp>
        <p:nvCxnSpPr>
          <p:cNvPr id="822" name="5 Conector recto de flecha"/>
          <p:cNvCxnSpPr/>
          <p:nvPr/>
        </p:nvCxnSpPr>
        <p:spPr>
          <a:xfrm flipH="1" flipV="1">
            <a:off x="7092720" y="5229360"/>
            <a:ext cx="72000" cy="57636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arrow" w="med"/>
          </a:ln>
        </p:spPr>
      </p:cxnSp>
      <p:sp>
        <p:nvSpPr>
          <p:cNvPr id="823" name="1 CuadroTexto"/>
          <p:cNvSpPr/>
          <p:nvPr/>
        </p:nvSpPr>
        <p:spPr>
          <a:xfrm>
            <a:off x="2198520" y="4699080"/>
            <a:ext cx="51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Biotin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3 CuadroTexto"/>
          <p:cNvSpPr/>
          <p:nvPr/>
        </p:nvSpPr>
        <p:spPr>
          <a:xfrm>
            <a:off x="3448800" y="180324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5" name="5 Conector recto de flecha"/>
          <p:cNvCxnSpPr/>
          <p:nvPr/>
        </p:nvCxnSpPr>
        <p:spPr>
          <a:xfrm flipV="1">
            <a:off x="3924000" y="1802880"/>
            <a:ext cx="1080" cy="18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 Narrow"/>
              </a:rPr>
              <a:t>Relación entre el Metabolismo de los H. de C. y la Biosíntesis de Ácidos Grasos</a:t>
            </a:r>
            <a:endParaRPr b="1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827" name="Imagen 4" descr="fi18p22"/>
          <p:cNvPicPr/>
          <p:nvPr/>
        </p:nvPicPr>
        <p:blipFill>
          <a:blip r:embed="rId1"/>
          <a:stretch/>
        </p:blipFill>
        <p:spPr>
          <a:xfrm>
            <a:off x="1295280" y="1447920"/>
            <a:ext cx="6912000" cy="5016240"/>
          </a:xfrm>
          <a:prstGeom prst="rect">
            <a:avLst/>
          </a:prstGeom>
          <a:ln w="0">
            <a:noFill/>
          </a:ln>
        </p:spPr>
      </p:pic>
      <p:sp>
        <p:nvSpPr>
          <p:cNvPr id="828" name="Cuadro de texto 7"/>
          <p:cNvSpPr/>
          <p:nvPr/>
        </p:nvSpPr>
        <p:spPr>
          <a:xfrm>
            <a:off x="990720" y="2362320"/>
            <a:ext cx="1295280" cy="368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CITOS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Cuadro de texto 8"/>
          <p:cNvSpPr/>
          <p:nvPr/>
        </p:nvSpPr>
        <p:spPr>
          <a:xfrm>
            <a:off x="1752480" y="1752480"/>
            <a:ext cx="160020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GLICOLI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Cuadro de texto 9"/>
          <p:cNvSpPr/>
          <p:nvPr/>
        </p:nvSpPr>
        <p:spPr>
          <a:xfrm>
            <a:off x="7086600" y="1905120"/>
            <a:ext cx="167652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Sintesis de ácidos gra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Rectángulo 10"/>
          <p:cNvSpPr/>
          <p:nvPr/>
        </p:nvSpPr>
        <p:spPr>
          <a:xfrm>
            <a:off x="3124080" y="1447920"/>
            <a:ext cx="160020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arbohidra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Rectángulo 11"/>
          <p:cNvSpPr/>
          <p:nvPr/>
        </p:nvSpPr>
        <p:spPr>
          <a:xfrm>
            <a:off x="3352680" y="2057400"/>
            <a:ext cx="12193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iruv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Rectángulo 12"/>
          <p:cNvSpPr/>
          <p:nvPr/>
        </p:nvSpPr>
        <p:spPr>
          <a:xfrm>
            <a:off x="3276720" y="2971800"/>
            <a:ext cx="114300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iruv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Rectángulo 13"/>
          <p:cNvSpPr/>
          <p:nvPr/>
        </p:nvSpPr>
        <p:spPr>
          <a:xfrm>
            <a:off x="1104840" y="4145040"/>
            <a:ext cx="1067040" cy="609480"/>
          </a:xfrm>
          <a:prstGeom prst="rect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Cuerp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cetón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Cuadro de texto 14"/>
          <p:cNvSpPr/>
          <p:nvPr/>
        </p:nvSpPr>
        <p:spPr>
          <a:xfrm>
            <a:off x="2286000" y="4648320"/>
            <a:ext cx="137160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cetogéne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Cuadro de texto 15"/>
          <p:cNvSpPr/>
          <p:nvPr/>
        </p:nvSpPr>
        <p:spPr>
          <a:xfrm>
            <a:off x="4191120" y="3930480"/>
            <a:ext cx="137160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Symbol"/>
                <a:ea typeface="Symbol"/>
              </a:rPr>
              <a:t>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oxid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Cuadro de texto 16"/>
          <p:cNvSpPr/>
          <p:nvPr/>
        </p:nvSpPr>
        <p:spPr>
          <a:xfrm>
            <a:off x="1752480" y="5181480"/>
            <a:ext cx="1600200" cy="30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MITOCONDR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Cuadro de texto 17"/>
          <p:cNvSpPr/>
          <p:nvPr/>
        </p:nvSpPr>
        <p:spPr>
          <a:xfrm>
            <a:off x="3429000" y="4295880"/>
            <a:ext cx="1574640" cy="368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cetil-C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Cuadro de texto 18"/>
          <p:cNvSpPr/>
          <p:nvPr/>
        </p:nvSpPr>
        <p:spPr>
          <a:xfrm>
            <a:off x="6248520" y="4281480"/>
            <a:ext cx="12952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cetil-Co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Cuadro de texto 19"/>
          <p:cNvSpPr/>
          <p:nvPr/>
        </p:nvSpPr>
        <p:spPr>
          <a:xfrm>
            <a:off x="5486400" y="4952880"/>
            <a:ext cx="9144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Citra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Cuadro de texto 20"/>
          <p:cNvSpPr/>
          <p:nvPr/>
        </p:nvSpPr>
        <p:spPr>
          <a:xfrm>
            <a:off x="4343400" y="4952880"/>
            <a:ext cx="7621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Citra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Cuadro de texto 21"/>
          <p:cNvSpPr/>
          <p:nvPr/>
        </p:nvSpPr>
        <p:spPr>
          <a:xfrm>
            <a:off x="7010280" y="5334120"/>
            <a:ext cx="14479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Oxalaceta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Cuadro de texto 23"/>
          <p:cNvSpPr/>
          <p:nvPr/>
        </p:nvSpPr>
        <p:spPr>
          <a:xfrm>
            <a:off x="6173640" y="1236600"/>
            <a:ext cx="114300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Ácidos gras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Rectángulo 24"/>
          <p:cNvSpPr/>
          <p:nvPr/>
        </p:nvSpPr>
        <p:spPr>
          <a:xfrm>
            <a:off x="5791320" y="2133720"/>
            <a:ext cx="106668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cil-Co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Rectángulo 25"/>
          <p:cNvSpPr/>
          <p:nvPr/>
        </p:nvSpPr>
        <p:spPr>
          <a:xfrm>
            <a:off x="5486400" y="3276720"/>
            <a:ext cx="13716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cil- Carnit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Rectángulo 26"/>
          <p:cNvSpPr/>
          <p:nvPr/>
        </p:nvSpPr>
        <p:spPr>
          <a:xfrm>
            <a:off x="4267080" y="3352680"/>
            <a:ext cx="114300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cil-Co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79280" y="44280"/>
            <a:ext cx="874872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 Narrow"/>
              </a:rPr>
              <a:t>Procedencia de Acetil CoA, Enzimas y Poder reductor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85316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ITRA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CITRATO LIAS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Acetil-CoA CARBOXIL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ACIDO GRASO SINT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NAD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Autoforma 12"/>
          <p:cNvSpPr/>
          <p:nvPr/>
        </p:nvSpPr>
        <p:spPr>
          <a:xfrm>
            <a:off x="2268360" y="5738760"/>
            <a:ext cx="358920" cy="1119240"/>
          </a:xfrm>
          <a:custGeom>
            <a:avLst/>
            <a:gdLst>
              <a:gd name="textAreaLeft" fmla="*/ 229320 w 358920"/>
              <a:gd name="textAreaRight" fmla="*/ 359280 w 358920"/>
              <a:gd name="textAreaTop" fmla="*/ 29160 h 1119240"/>
              <a:gd name="textAreaBottom" fmla="*/ 1090080 h 111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Cuadro de texto 13"/>
          <p:cNvSpPr/>
          <p:nvPr/>
        </p:nvSpPr>
        <p:spPr>
          <a:xfrm>
            <a:off x="2700360" y="5734080"/>
            <a:ext cx="304812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Vía de las Pentos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Cuadro de texto 14"/>
          <p:cNvSpPr/>
          <p:nvPr/>
        </p:nvSpPr>
        <p:spPr>
          <a:xfrm>
            <a:off x="2781360" y="6296040"/>
            <a:ext cx="272736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nzima má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Línea 15"/>
          <p:cNvSpPr/>
          <p:nvPr/>
        </p:nvSpPr>
        <p:spPr>
          <a:xfrm>
            <a:off x="4859280" y="537372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Elipse 16"/>
          <p:cNvSpPr/>
          <p:nvPr/>
        </p:nvSpPr>
        <p:spPr>
          <a:xfrm>
            <a:off x="5940360" y="4869000"/>
            <a:ext cx="2376720" cy="12240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omplej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multienzimá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4" name="Grupo 31"/>
          <p:cNvGrpSpPr/>
          <p:nvPr/>
        </p:nvGrpSpPr>
        <p:grpSpPr>
          <a:xfrm>
            <a:off x="3122640" y="1052640"/>
            <a:ext cx="6021360" cy="2604960"/>
            <a:chOff x="3122640" y="1052640"/>
            <a:chExt cx="6021360" cy="2604960"/>
          </a:xfrm>
        </p:grpSpPr>
        <p:grpSp>
          <p:nvGrpSpPr>
            <p:cNvPr id="855" name="Grupo 29"/>
            <p:cNvGrpSpPr/>
            <p:nvPr/>
          </p:nvGrpSpPr>
          <p:grpSpPr>
            <a:xfrm>
              <a:off x="3122640" y="1052640"/>
              <a:ext cx="6021360" cy="1082160"/>
              <a:chOff x="3122640" y="1052640"/>
              <a:chExt cx="6021360" cy="1082160"/>
            </a:xfrm>
          </p:grpSpPr>
          <p:grpSp>
            <p:nvGrpSpPr>
              <p:cNvPr id="856" name="Grupo 26"/>
              <p:cNvGrpSpPr/>
              <p:nvPr/>
            </p:nvGrpSpPr>
            <p:grpSpPr>
              <a:xfrm>
                <a:off x="3122640" y="1690560"/>
                <a:ext cx="6021360" cy="444240"/>
                <a:chOff x="3122640" y="1690560"/>
                <a:chExt cx="6021360" cy="444240"/>
              </a:xfrm>
            </p:grpSpPr>
            <p:sp>
              <p:nvSpPr>
                <p:cNvPr id="857" name="Autoforma 4"/>
                <p:cNvSpPr/>
                <p:nvPr/>
              </p:nvSpPr>
              <p:spPr>
                <a:xfrm>
                  <a:off x="3122640" y="1766520"/>
                  <a:ext cx="990720" cy="304920"/>
                </a:xfrm>
                <a:custGeom>
                  <a:avLst/>
                  <a:gdLst>
                    <a:gd name="textAreaLeft" fmla="*/ 173160 w 990720"/>
                    <a:gd name="textAreaRight" fmla="*/ 718200 w 990720"/>
                    <a:gd name="textAreaTop" fmla="*/ 40680 h 304920"/>
                    <a:gd name="textAreaBottom" fmla="*/ 26424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11880" y="0"/>
                      </a:lnTo>
                      <a:arcTo wR="7560" hR="21600" stAng="-5400000" swAng="2682637"/>
                      <a:lnTo>
                        <a:pt x="21168" y="14400"/>
                      </a:lnTo>
                      <a:lnTo>
                        <a:pt x="17280" y="21600"/>
                      </a:lnTo>
                      <a:lnTo>
                        <a:pt x="12528" y="14400"/>
                      </a:lnTo>
                      <a:lnTo>
                        <a:pt x="14688" y="14400"/>
                      </a:lnTo>
                      <a:arcTo wR="7560" hR="21600" stAng="-2717363" swAng="-2325203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  <a:path fill="darkenLess"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7560" y="0"/>
                      </a:lnTo>
                      <a:arcTo wR="7560" hR="21600" stAng="-5400000" swAng="357435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Cuadro de texto 5"/>
                <p:cNvSpPr/>
                <p:nvPr/>
              </p:nvSpPr>
              <p:spPr>
                <a:xfrm>
                  <a:off x="4418280" y="1766520"/>
                  <a:ext cx="1752480" cy="368280"/>
                </a:xfrm>
                <a:prstGeom prst="rect">
                  <a:avLst/>
                </a:prstGeom>
                <a:solidFill>
                  <a:srgbClr val="f9f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CETIL-CoA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Cuadro de texto 6"/>
                <p:cNvSpPr/>
                <p:nvPr/>
              </p:nvSpPr>
              <p:spPr>
                <a:xfrm>
                  <a:off x="7391520" y="1766520"/>
                  <a:ext cx="1752480" cy="368280"/>
                </a:xfrm>
                <a:prstGeom prst="rect">
                  <a:avLst/>
                </a:prstGeom>
                <a:solidFill>
                  <a:srgbClr val="f9f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ALONIL-CoA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Autoforma 7"/>
                <p:cNvSpPr/>
                <p:nvPr/>
              </p:nvSpPr>
              <p:spPr>
                <a:xfrm>
                  <a:off x="6475680" y="1690560"/>
                  <a:ext cx="838080" cy="304560"/>
                </a:xfrm>
                <a:custGeom>
                  <a:avLst/>
                  <a:gdLst>
                    <a:gd name="textAreaLeft" fmla="*/ 146520 w 838080"/>
                    <a:gd name="textAreaRight" fmla="*/ 607680 w 838080"/>
                    <a:gd name="textAreaTop" fmla="*/ 40680 h 304560"/>
                    <a:gd name="textAreaBottom" fmla="*/ 2638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11880" y="0"/>
                      </a:lnTo>
                      <a:arcTo wR="7560" hR="21600" stAng="-5400000" swAng="2682637"/>
                      <a:lnTo>
                        <a:pt x="21168" y="14400"/>
                      </a:lnTo>
                      <a:lnTo>
                        <a:pt x="17280" y="21600"/>
                      </a:lnTo>
                      <a:lnTo>
                        <a:pt x="12528" y="14400"/>
                      </a:lnTo>
                      <a:lnTo>
                        <a:pt x="14688" y="14400"/>
                      </a:lnTo>
                      <a:arcTo wR="7560" hR="21600" stAng="-2717363" swAng="-2325203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  <a:path fill="darkenLess"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7560" y="0"/>
                      </a:lnTo>
                      <a:arcTo wR="7560" hR="21600" stAng="-5400000" swAng="357435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Elipse 8"/>
              <p:cNvSpPr/>
              <p:nvPr/>
            </p:nvSpPr>
            <p:spPr>
              <a:xfrm>
                <a:off x="6372360" y="1052640"/>
                <a:ext cx="914400" cy="60948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T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62" name="Autoforma 10"/>
            <p:cNvSpPr/>
            <p:nvPr/>
          </p:nvSpPr>
          <p:spPr>
            <a:xfrm rot="5278800">
              <a:off x="7619760" y="2512440"/>
              <a:ext cx="1066320" cy="304920"/>
            </a:xfrm>
            <a:custGeom>
              <a:avLst/>
              <a:gdLst>
                <a:gd name="textAreaLeft" fmla="*/ 166320 w 1066320"/>
                <a:gd name="textAreaRight" fmla="*/ 933120 w 106632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Cuadro de texto 11"/>
            <p:cNvSpPr/>
            <p:nvPr/>
          </p:nvSpPr>
          <p:spPr>
            <a:xfrm>
              <a:off x="7620120" y="3289320"/>
              <a:ext cx="1295280" cy="368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IL-Co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Línea 17"/>
            <p:cNvSpPr/>
            <p:nvPr/>
          </p:nvSpPr>
          <p:spPr>
            <a:xfrm>
              <a:off x="6170760" y="2060640"/>
              <a:ext cx="1904760" cy="53280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5" name="Grupo 30"/>
          <p:cNvGrpSpPr/>
          <p:nvPr/>
        </p:nvGrpSpPr>
        <p:grpSpPr>
          <a:xfrm>
            <a:off x="1403280" y="2900520"/>
            <a:ext cx="5426280" cy="1058040"/>
            <a:chOff x="1403280" y="2900520"/>
            <a:chExt cx="5426280" cy="1058040"/>
          </a:xfrm>
        </p:grpSpPr>
        <p:sp>
          <p:nvSpPr>
            <p:cNvPr id="866" name="Cuadro de texto 19"/>
            <p:cNvSpPr/>
            <p:nvPr/>
          </p:nvSpPr>
          <p:spPr>
            <a:xfrm>
              <a:off x="1403280" y="3260880"/>
              <a:ext cx="158436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ITR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Línea 20"/>
            <p:cNvSpPr/>
            <p:nvPr/>
          </p:nvSpPr>
          <p:spPr>
            <a:xfrm>
              <a:off x="3060720" y="3476520"/>
              <a:ext cx="15112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Cuadro de texto 21"/>
            <p:cNvSpPr/>
            <p:nvPr/>
          </p:nvSpPr>
          <p:spPr>
            <a:xfrm>
              <a:off x="5051520" y="2900520"/>
              <a:ext cx="17524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ETIL-Co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Cuadro de texto 22"/>
            <p:cNvSpPr/>
            <p:nvPr/>
          </p:nvSpPr>
          <p:spPr>
            <a:xfrm>
              <a:off x="5076720" y="3548160"/>
              <a:ext cx="175284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xalacetat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Cuadro de texto 23"/>
            <p:cNvSpPr/>
            <p:nvPr/>
          </p:nvSpPr>
          <p:spPr>
            <a:xfrm>
              <a:off x="5580000" y="32148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+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Cuadro de texto 24"/>
            <p:cNvSpPr/>
            <p:nvPr/>
          </p:nvSpPr>
          <p:spPr>
            <a:xfrm>
              <a:off x="2987640" y="3621240"/>
              <a:ext cx="187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TP      ADP + P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Autoforma 25"/>
            <p:cNvSpPr/>
            <p:nvPr/>
          </p:nvSpPr>
          <p:spPr>
            <a:xfrm>
              <a:off x="3492360" y="3548160"/>
              <a:ext cx="576360" cy="144360"/>
            </a:xfrm>
            <a:custGeom>
              <a:avLst/>
              <a:gdLst>
                <a:gd name="textAreaLeft" fmla="*/ 100800 w 576360"/>
                <a:gd name="textAreaRight" fmla="*/ 417960 w 576360"/>
                <a:gd name="textAreaTop" fmla="*/ 19080 h 144360"/>
                <a:gd name="textAreaBottom" fmla="*/ 12528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3" name="Línea 27"/>
          <p:cNvSpPr/>
          <p:nvPr/>
        </p:nvSpPr>
        <p:spPr>
          <a:xfrm>
            <a:off x="4932360" y="4581360"/>
            <a:ext cx="57636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Cuadro de texto 28"/>
          <p:cNvSpPr/>
          <p:nvPr/>
        </p:nvSpPr>
        <p:spPr>
          <a:xfrm>
            <a:off x="5508720" y="4292640"/>
            <a:ext cx="3406680" cy="4291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  <a:ea typeface="Arial"/>
              </a:rPr>
              <a:t>Síntesis de malonil-Co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2:06:53Z</dcterms:created>
  <dc:creator>Fanny</dc:creator>
  <dc:description/>
  <dc:language>en-US</dc:language>
  <cp:lastModifiedBy>Preferred Customer</cp:lastModifiedBy>
  <dcterms:modified xsi:type="dcterms:W3CDTF">2014-04-14T21:09:26Z</dcterms:modified>
  <cp:revision>167</cp:revision>
  <dc:subject/>
  <dc:title>Presentación de PowerPoint</dc:title>
</cp:coreProperties>
</file>